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7EB-2310-4190-812A-D17C5375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F92-EC91-44E6-855F-ED6AF56C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719-C0AA-4927-8044-7CCD8BB6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F68-86F7-4F92-89B4-F6130F9D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A40-415C-457A-8081-F9AE1F90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EB0-AC5A-4A06-971D-F49FE951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E6F-1929-43F7-9AB7-2A4CE7F8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8CB-B5D4-4B96-BC1F-A3B97879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FDE-5D4D-418E-83D1-273FA984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191-DC52-433A-B8AA-F433F30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5DE-B47F-4D58-BB77-FBD498CB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E52-0992-43AA-A532-F676F51F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D445-FA3A-4C57-90FE-3E3287277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Collections and our Research Commun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esentation at the Council on Library and Information Resources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is X. Blouin J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tley Historical Library, University of Michi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traditional spec. coll.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ergence of onl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al and visual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ociations in an on line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itution as supp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and Travel ag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the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value of unique manuscripts to rar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nature of University and other modern archives—problem of i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conceptual frameworks over simply “hav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n institutional connection for Special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to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 of Hidden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they been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question (back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s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uly hid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s of the Jepson Herbaria at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l project to find collections in the Philadelphia area (U-Pe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books and journals at the Smiths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 communist party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e and Stanford recorded soun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Michigan Islamic m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deas on what is 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llections (CA Digit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 multi sheet map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v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ves of the Congregation for the Doctrine of the Faith.   Vat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stablished in 15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formation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of forbidden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ed for consultation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s for hidden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evel of arrangement and d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llenge of decoding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ding the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broader implications from specif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selectivity of the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ocumentar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language specific nature of discourse embedded in th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al moment for special col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pects f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hinking of the researc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the uniqu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pecial Collections and Scholarship on Divergent Pat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authorities in institutional archives and institution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ty of archives in historica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t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cholarship and curatorship in the formation of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archival authority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from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r questions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e of identity, experience, and memory as a historic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anguage in mediating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multiple p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ding boundaries of historic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urn away from historical authority in the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authorities in the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to essential description of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diverse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chnical challenges of database and syst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reparation in info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pacity of historiography to provide enduring authorities in the conceptualization and appraisal of material—what to select.  Also collections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Ianguage in database construction vs. deconstruction of language in histor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the grain of the archive vs. a fixed descriptiv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stitutional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ec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ing a source historical adds layers of meaning not necessarily intrinsic to the book or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item is represented in our descriptive structures can bear no resemblance to how it is read and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s historical understanding from our constructions of descrip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disciplinar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chiv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evidence, voice, experience, identity, process, conventions, structures, sets of practices  vs. notions of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S report on cyberinfrastructure:  is it the scholars or the librarian/archivists who will shape this knowledge environment-contention over who shapes the knowledg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ions of description vs. technic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sponsibility on the disciplines themselves for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atalog and finding ai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of the Vatica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ttention to EAD and cross collection possibilities—the “sub cata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as an academ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llections as an intellec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ersonnel (joint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academic program (cour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—teaching with coll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Special collections as a “faculty” or knowledge specialization on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thinking about collections I prefer to think of our work as a point of medi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knowledge has come from and where knowledge is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knowledge was conceived and how it currently is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old technologies and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extuality/visuality and new forms of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ecial Coll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of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printed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of non-boo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 of the printed arti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collective identity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nd significance ov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andoned authorities and new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ed sources and imagine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old and th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old forms of description and new conceptions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fixity of our catalogs and materials and the dynamism of humanistic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llections then be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authority more tha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mediation more tha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mmunity more th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lace of connection more than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dge over the Archival Divid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louin@u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have Special Col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re and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the rare and valuable from private hands into the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“ha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ny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aning and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are our research commun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teur sch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ly 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oint of connectio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frastru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s and find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f other schol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foot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Reading 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iblioteca Apostolica Vat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600200"/>
            <a:ext cx="687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the research community especially scholars seasoned and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digital surro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The conceptual divide between those who curate and those wh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 of the Digital to the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s with phys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the physical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shold of adequ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nuscript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rint to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0:38:10Z</dcterms:created>
  <dc:creator>Fran Blouin</dc:creator>
  <dc:description/>
  <dc:language>en-US</dc:language>
  <cp:lastModifiedBy>aharbur</cp:lastModifiedBy>
  <dcterms:modified xsi:type="dcterms:W3CDTF">2010-03-26T22:25:20Z</dcterms:modified>
  <cp:revision>13</cp:revision>
  <dc:subject/>
  <dc:title>Special Collections and the Research Community</dc:title>
</cp:coreProperties>
</file>