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70709-040A-46A3-8171-6F1C20BF9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1B29C-6BD0-44F6-8E76-F6EE3BFA6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27691-57FE-429E-9D0A-3096663B9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4176E-DB86-4AD0-AB84-8A4F70A42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309F9-B734-4D8A-B048-769A70810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4D3AF-E83E-40FD-B60D-5F1852D56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9B215-3D71-4271-84E6-0B1CA1212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28866-6E05-4FF0-A6A2-9990648A0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E0093-6937-469C-8941-7C3C7EC17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57D55-C4EB-4316-8369-C00EE6888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C2817-D3C0-4641-944F-54650369A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0D1E5-04FE-45D4-B670-BF5672FAE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4382B-D28F-4054-ABFA-E6A9712A6A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Collections and our Research Communiti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 presentation at the Council on Library and Information Resources, Washington D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rancis X. Blouin J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ir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ntley Historical Library, University of Michig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llenge of the Digital to the traditional spec. coll. experie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emergence of online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talogs and finding a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archic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 hierarchic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xtual and visuals deliv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ssociations in an on line trans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llenge of the Digit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gital as supplemen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Institution as supplemen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nks and Travel agent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llenge of the Digit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ve value of unique manuscripts to rare book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digital nature of University and other modern archives—problem of ing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ortance of conceptual frameworks over simply “having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intaining an institutional connection for Special Coll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necting to scholarsh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llenge of Hidden Colle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ave they been hidd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uly hid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urce question (backlo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ideas on what is a coll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tters of poli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ruly hidd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llections of the Jepson Herbaria at UC Berke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ortial project to find collections in the Philadelphia area (U-Pen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ieldbooks and journals at the Smithsoni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 constrai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YU communist party 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ale and Stanford recorded sound mater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versity of Michigan Islamic m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ew Ideas on what is a colle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vironmental collections (CA Digital Libr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C multi sheet map coll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chival polic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rchives of the Congregation for the Doctrine of the Faith.   Vatic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established in 1570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t reformation inquis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ex of forbidden boo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ed for consultation 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cedures for hidden colle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ropriate level of arrangement and descri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hallenge of decoding the arch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ing relev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coding the arch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eing broader implications from specific proc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ing the selectivity of the arch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ing the documentary struc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ing the language specific nature of discourse embedded in the 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special moment for special colle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rospects for Goog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thinking of the research libr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importance of the unique and r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Archival Divi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 Special Collections and Scholarship on Divergent Paths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ientific Hist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vergence of authorities in institutional archives and institutional his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uthority of archives in historical interpre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ootno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vergence of scholarship and curatorship in the formation of coll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turn away from archival authority in histo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story from be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oader questions of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ergence of identity, experience, and memory as a historical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cus on language in mediating historical understan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idea of multiple pa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expanding boundaries of historical understan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turn away from historical authority in the archiv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roblem of bul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ed for authorities in the appraisal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eturn to essential description of 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roblem of diverse constitu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technical challenges of database and system 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cific preparation in info Sci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Archival Divide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incapacity of historiography to provide enduring authorities in the conceptualization and appraisal of material—what to select.  Also collections have multiple meaning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cision Ianguage in database construction vs. deconstruction of language in historical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idea of the grain of the archive vs. a fixed descriptive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institutional arch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collecting instit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Archival Div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ignating a source historical adds layers of meaning not necessarily intrinsic to the book or docu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an item is represented in our descriptive structures can bear no resemblance to how it is read and understo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ouples historical understanding from our constructions of descriptive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interdisciplinary experi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Archival Div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ding evidence, voice, experience, identity, process, conventions, structures, sets of practices  vs. notions of inform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LS report on cyberinfrastructure:  is it the scholars or the librarian/archivists who will shape this knowledge environment-contention over who shapes the knowledge enviro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eptions of description vs. technical standa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asing responsibility on the disciplines themselves for descri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llel catalog and finding aid struc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ase of the Vatican Arch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attention to EAD and cross collection possibilities—the “sub catalog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cial Collections as an academic cen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al Collections as an intellectual cen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sible academic personnel (joint appointment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sible academic program (cours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s—teaching with collectio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_ Special collections as a “faculty” or knowledge specialization on the cam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ther than thinking about collections I prefer to think of our work as a point of mediation betwe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re knowledge has come from and where knowledge is go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knowledge was conceived and how it currently is constru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ween old technologies and new technolog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ween textuality/visuality and new forms of delive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are Special Collec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ch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lections of arch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o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chives of printed mat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chives of non-book mat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seum of the printed artifa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phasis on collective identity of mater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aning and significance over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tween abandoned authorities and new author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tween fixed sources and imagined autho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tween the old and the yo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tween old forms of description and new conceptions of signific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tween fixity of our catalogs and materials and the dynamism of humanistic inqui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cial Collections then becom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A place of authority more than mater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A place of mediation more than serv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A place of community more than instit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A place of connection more than reposi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Bridge over the Archival Divide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blouin@umich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y do we have Special Collectio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y the rare and valu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move the rare and valuable from private hands into the public dom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“hav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tell a s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in a conceptual frame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many frame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convey meaning and signific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o are our research communiti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ablished schol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schol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mateur schol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enerally curio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is the point of connection?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Infrastructur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buil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instit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ior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nceptual frame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talogs and finding a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work of other schola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cing footno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Reading Room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Biblioteca Apostolica Vatica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131840" y="1600200"/>
            <a:ext cx="68785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Challen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aling with the research community especially scholars seasoned and n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***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impact of digital surrog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  The conceptual divide between those who curate and those who 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llenge of the Digital to the infrastruct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chitectural associ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ociations with physic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ed for the physical ob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____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threshold of adequa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manuscript to pr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print to digi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4T20:38:10Z</dcterms:created>
  <dc:creator>Fran Blouin</dc:creator>
  <dc:description/>
  <dc:language>en-US</dc:language>
  <cp:lastModifiedBy>aharbur</cp:lastModifiedBy>
  <dcterms:modified xsi:type="dcterms:W3CDTF">2010-03-26T22:25:20Z</dcterms:modified>
  <cp:revision>13</cp:revision>
  <dc:subject/>
  <dc:title>Special Collections and the Research Community</dc:title>
</cp:coreProperties>
</file>