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EB0-29FC-4ACA-AD96-9848E667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7FE-C003-43B1-83F6-C947DA21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E82-CB03-48F8-81A2-752CD252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F70-492A-4136-908A-2E9F4F2B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242-7D73-4270-A21D-018C1298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F88-1776-4681-833B-D2B677EA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257-1C16-404B-881F-FF9C2231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225-563C-40D9-A248-99382853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9FA-4149-4AB4-98F9-BDBBA550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7E0-D655-48BD-AC32-32D15E47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25A-9197-47DB-9ABE-D1D506B9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01E-78E2-41B5-A762-BF1554BD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3B37-1C3D-463F-BB53-EA91C37C9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Collections and our Research Commun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resentation at the Council on Library and Information Resources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ncis X. Blouin J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tley Historical Library, University of Michi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traditional spec. coll.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ergence of onli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al and visuals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ssociations in an on line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itution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s and Travel ag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value of unique manuscripts to rare boo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al nature of University and other modern archives—problem of in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conceptual frameworks over simply “hav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an institutional connection for Special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ng to schola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Hidden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ave they been h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ly h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question (backlo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s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uly hid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ctions of the Jepson Herbaria at 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al project to find collections in the Philadelphia area (U-Pen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eldbooks and journals at the Smithso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U communist party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e and Stanford recorded sound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Michigan Islamic m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ollections (CA Digital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 multi sheet map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val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chives of the Congregation for the Doctrine of the Faith.   Vat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established in 15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reformation in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of forbidden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ed for consultation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dures for hidden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level of arrangement and de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llenge of decoding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ding the arch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broader implications from specific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selectivity of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documentar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language specific nature of discourse embedded in the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pecial moment for special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spects for Goo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hinking of the researc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the unique and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pecial Collections and Scholarship on Divergent Path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authorities in institutional archives and institutional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ty of archives in historica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ot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cholarship and curatorship in the formation of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archival authority i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from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er questions of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e of identity, experience, and memory as a historical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language in mediating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of multiple p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anding boundaries of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historical authority in the arch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b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authorities in the apprais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urn to essential description of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diverse constit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chnical challenges of database and syste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reparation in info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apacity of historiography to provide enduring authorities in the conceptualization and appraisal of material—what to select.  Also collections have multiple mea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 Ianguage in database construction vs. deconstruction of language in histor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the grain of the archive vs. a fixed descriptiv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stitutional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llect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ating a source historical adds layers of meaning not necessarily intrinsic to the book or doc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 item is represented in our descriptive structures can bear no resemblance to how it is read and 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uples historical understanding from our constructions of descriptiv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disciplinar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evidence, voice, experience, identity, process, conventions, structures, sets of practices  vs. notions of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S report on cyberinfrastructure:  is it the scholars or the librarian/archivists who will shape this knowledge environment-contention over who shapes the knowledg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ions of description vs. technica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responsibility on the disciplines themselves for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catalog and finding ai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se of the Vatican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ttention to EAD and cross collection possibilities—the “sub catalo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as an academ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ollections as an intellectua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ersonnel (joint appoint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rogram (cours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—teaching with coll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 Special collections as a “faculty” or knowledge specialization on the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thinking about collections I prefer to think of our work as a point of mediation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knowledge has come from and where knowledge is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knowledge was conceived and how it currently is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old technologies and new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extuality/visuality and new forms of deli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pecial Coll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 of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printed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non-book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eum of the printed arti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collective identity of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nd significance ov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bandoned authorities and new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ed sources and imagined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the old and the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old forms of description and new conceptions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ity of our catalogs and materials and the dynamism of humanistic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then be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authority more tha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mediation more tha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mmunity more th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nnection more than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dge over the Archival Divid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blouin@umich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have Special Col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are and valu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the rare and valuable from private hands into the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ha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a conceptu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ny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vey meaning and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re our research commun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teur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ly 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oint of connectio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nfrastru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u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of other schol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foot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Reading Ro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iblioteca Apostolica Vat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31840" y="1600200"/>
            <a:ext cx="687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the research community especially scholars seasoned and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of digital surro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The conceptual divide between those who curate and those wh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al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s with physic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the physical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shold of adequ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anuscript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print to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20:38:10Z</dcterms:created>
  <dc:creator>Fran Blouin</dc:creator>
  <dc:description/>
  <dc:language>en-US</dc:language>
  <cp:lastModifiedBy>aharbur</cp:lastModifiedBy>
  <dcterms:modified xsi:type="dcterms:W3CDTF">2010-03-26T22:25:20Z</dcterms:modified>
  <cp:revision>13</cp:revision>
  <dc:subject/>
  <dc:title>Special Collections and the Research Community</dc:title>
</cp:coreProperties>
</file>