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2573-2368-445C-B620-D5403D843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I truly appreciate the opportunity to share with you our year one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Rutstein, circa 1955, on “The Facts of Medicine.” Early use of television in health education efforts. Rutstein served as head of the Harvard Medical School Department of Preventative Medicine from 1947-197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list broken out as a separate deli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s: Higher for first collection and reflects refining workflow. The more collections we track, the more we can “predict” the amount of time for certain types of coll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would expect: planning and description require large time investments, as does physically refoldering recor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s include organization of records prior to processing, presence of “familiar” types of records/series,  complexity of series, and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s: For example, archival series v. manuscript collections. What happens when it is just one person handling all of the processing activities. Does this speed up or slow down the rate of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now includes a weight system, such as ranking an unprocessed collection from 1 – 5 on the complexity of materials, the arrangement upon receipt, its physical condition, the amount of misc. preservation tasks anticipate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ation: How much time spent on preservation photocopying. How much time do we really spend on pulling clips and unfolding thing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If you really want to know how much time it takes and how much money we’ll need, here you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and equally as important, return on investment: Part of our research. What is essential to access. Do researchers really need all of the products of description? Do they really want all the products of description? For example, are folder lists enoug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exercises and surveys and 8 resear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from the scholarly community regarding the delivery of folder lists in advance of full finding aids has been overwhelmingly pos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have identified access to collections as their number one priority, and have found that the spreadsheets enabled them to successfully identify groups of records of interest that would satisfy their research needs when folders titles are grouped by s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full finding aids were always welcome (especially to more inexperienced researchers), the descriptive content mattered far less than having the actual folder titles, which were transcribed from the origi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qualifiers of particular inte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happy to answer any questions at the end of the ses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provide some background: In December 2008, The Center for the History of Medicine received a Council on Library and Information Resources grant enabling us to embark on a two year processing project (Foundations of…). The grant enabled us to hire a project archivist (Michael Dello Iacono) and two part-time processing assistants (Suzanne Denison and Cheryl Ostrowski), who I am grateful to for their hard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llections selected address Issues of vital concern: How do we measure health care outcomes? How do we optimize health care delivery? How do we provide medical care to poor and underserved populations? How can we prevent the spread of diseas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speaks to the mission of the Center: the history of medicine is vital to informing contemporary medical practice. These collections extremely relevant, particularly to the current political debate and the role of government in health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ur collections select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Allan Macy Butler, Chief of the Children’s Medical Service as Mass General Hospital, 1942-1960, concerned with human rights , nuclear disarmament, organization of medical 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Leona Baumgartner, the first woman commissioner of the NYC Dept. of Health, 1954-1962 and advisor to the federal government on maternal health, preventive medicine and international ai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David Rutstein, who headed the Harvard Medical School Department of Preventative medicine from 1947-1971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Papers of Howard Hiatt, Dean of the Harvard School of Public Health from 1972-1984. Hiatt was involved with a number of initiatives related to health care delivery relationships of hospitals to their communities, and social justice. In total, an estimated 274 cubic feet. A little larger than a 5x10 cargo trail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Lists deliverables/three areas of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 combination of qualitative and quantitative measures: surveys, interviews, and exercises. I’ll talk more about this as well. The focus of the presentation is on project tracking.</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consider MPLP? A return to process. As the quote illustrates, we are looking at the continuum. Rather than MPLP, we are thinking about APPROPRIATE-level processing and pract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LP: Not one size-fits all. A call to re-evaluate workflow and establish priorities in advance of processing. A RETURN TO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listing. Core of our processing practices. We have a convention for the listing folders and transcribing original folder titles. Folder listing is essential to flagging and closing restricted records: university records, medical records, patient privacy. Access to folder lists available well in advance of top level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Faster access to materials may, but not always, have an inverse relationship to the amount of time a researcher needs to spend using a collection. Part of our research addresses th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Results in multiple log entries per day per employ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Listing, refoldering, re-boxing,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Extrapolate: Not always 1:1 relation to box due to reorganization that can occur later, but pretty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collection: Brings together pieces of the processing plan, including a checklist of deliverables, and commenta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t this in perspective, we recently conducted a poll of </a:t>
            </a:r>
            <a:r>
              <a:rPr b="0" lang="en-US" sz="600" spc="-1" strike="noStrike">
                <a:solidFill>
                  <a:srgbClr val="000000"/>
                </a:solidFill>
                <a:latin typeface="Arial"/>
              </a:rPr>
              <a:t>processing methodologies and metrics capture. We invited archivists, collections administrators, and curators affiliated with the New England Archivists, the Society of American Archivists, and the Archivists and Librarians in the History of the Health Sciences to participate in an online survey of how they track processing activities and outpu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had sixty-five respondents. Given the results, </a:t>
            </a:r>
            <a:r>
              <a:rPr b="0" lang="en-US" sz="1200" spc="-1" strike="noStrike">
                <a:solidFill>
                  <a:srgbClr val="000000"/>
                </a:solidFill>
                <a:latin typeface="Arial"/>
              </a:rPr>
              <a:t>the availability of such a tool may benefit the greater archival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terest, most repositories do not measure processing activities differently for non-textual recor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t fancy, but it gets the job d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d very much be interested in hearing about how other people are tracking their processing. As much information on the utility of this type of data gathering, or suggestions as to how it can be improved, are more than welco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date, end date, total hours, number of fold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2C242-C6A8-45C2-A0F8-98B8542E7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87E2D-A54C-4610-ABC2-B88085F49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E6ABE-2100-495C-9542-8751249D5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25D95-EDB1-4EB8-9923-CA5C7AD19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F5C6D-A412-4203-86D3-6FFBF53F4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2B710-AD9B-485E-8C9F-9317319E9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255C5-4BA8-49DF-9A82-03F42610A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F9D1B-A0FE-4DE2-AFFC-EFE42565A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A8450-F287-4B16-9DF6-C05545346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1C2D9-870C-459C-9EC1-74730FEEF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18358-FED5-4ED1-B04F-DA74925C9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2449-8563-4502-94A9-834731F14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A430-A990-4991-83CC-1D6E745958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surveymonkey.com/s/MFSQKZX"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s of </a:t>
            </a:r>
            <a:br>
              <a:rPr sz="3200"/>
            </a:br>
            <a:r>
              <a:rPr b="0" lang="en-US" sz="3200" spc="-1" strike="noStrike">
                <a:solidFill>
                  <a:srgbClr val="000000"/>
                </a:solidFill>
                <a:latin typeface="Arial"/>
              </a:rPr>
              <a:t>Public Health Policy</a:t>
            </a:r>
            <a:br>
              <a:rPr sz="3200"/>
            </a:br>
            <a:br>
              <a:rPr sz="1600"/>
            </a:br>
            <a:r>
              <a:rPr b="0" lang="en-US" sz="1800" spc="-1" strike="noStrike">
                <a:solidFill>
                  <a:srgbClr val="000000"/>
                </a:solidFill>
                <a:latin typeface="Arial"/>
              </a:rPr>
              <a:t>Capturing Processing Metrics </a:t>
            </a:r>
            <a:br>
              <a:rPr sz="1800"/>
            </a:br>
            <a:r>
              <a:rPr b="0" lang="en-US" sz="1800" spc="-1" strike="noStrike">
                <a:solidFill>
                  <a:srgbClr val="000000"/>
                </a:solidFill>
                <a:latin typeface="Arial"/>
              </a:rPr>
              <a:t>and Qualifying MPLP Practices</a:t>
            </a:r>
            <a:br>
              <a:rPr sz="1800"/>
            </a:br>
            <a:br>
              <a:rPr sz="1800"/>
            </a:br>
            <a:r>
              <a:rPr b="1" i="1" lang="en-US" sz="1400" spc="-1" strike="noStrike">
                <a:solidFill>
                  <a:srgbClr val="000000"/>
                </a:solidFill>
                <a:latin typeface="Arial"/>
              </a:rPr>
              <a:t>CLIR Symposium, Monday, March 29, 2010</a:t>
            </a:r>
            <a:endParaRPr b="0" lang="en-US" sz="1400" spc="-1" strike="noStrike">
              <a:solidFill>
                <a:srgbClr val="000000"/>
              </a:solidFill>
              <a:latin typeface="Arial"/>
            </a:endParaRPr>
          </a:p>
        </p:txBody>
      </p:sp>
      <p:sp>
        <p:nvSpPr>
          <p:cNvPr id="49" name="PlaceHolder 2"/>
          <p:cNvSpPr>
            <a:spLocks noGrp="1"/>
          </p:cNvSpPr>
          <p:nvPr>
            <p:ph type="subTitle"/>
          </p:nvPr>
        </p:nvSpPr>
        <p:spPr>
          <a:xfrm>
            <a:off x="1371600" y="5410080"/>
            <a:ext cx="6400800" cy="91440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mily R. Novak Gustainis,</a:t>
            </a:r>
            <a:r>
              <a:rPr b="0" lang="en-US" sz="1400" spc="-1" strike="noStrike">
                <a:solidFill>
                  <a:srgbClr val="000000"/>
                </a:solidFill>
                <a:latin typeface="Arial"/>
              </a:rPr>
              <a:t> </a:t>
            </a:r>
            <a:r>
              <a:rPr b="0" i="1" lang="en-US" sz="1200" spc="-1" strike="noStrike">
                <a:solidFill>
                  <a:srgbClr val="000000"/>
                </a:solidFill>
                <a:latin typeface="Arial"/>
              </a:rPr>
              <a:t>Collections Services Archivist</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for the History of Medicine, Countway Library</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ily_gustainis@hms.harvard.edu</a:t>
            </a:r>
            <a:endParaRPr b="0" lang="en-US" sz="1200" spc="-1" strike="noStrike">
              <a:solidFill>
                <a:srgbClr val="000000"/>
              </a:solidFill>
              <a:latin typeface="Arial"/>
            </a:endParaRPr>
          </a:p>
        </p:txBody>
      </p:sp>
      <p:pic>
        <p:nvPicPr>
          <p:cNvPr id="50" name="" descr=""/>
          <p:cNvPicPr/>
          <p:nvPr/>
        </p:nvPicPr>
        <p:blipFill>
          <a:blip r:embed="rId1"/>
          <a:stretch/>
        </p:blipFill>
        <p:spPr>
          <a:xfrm>
            <a:off x="3429000" y="2895480"/>
            <a:ext cx="2590920" cy="20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971800" y="63244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1"/>
          <a:srcRect l="0" t="0" r="16191" b="30728"/>
          <a:stretch/>
        </p:blipFill>
        <p:spPr>
          <a:xfrm>
            <a:off x="152280" y="533520"/>
            <a:ext cx="8839440" cy="4821120"/>
          </a:xfrm>
          <a:prstGeom prst="rect">
            <a:avLst/>
          </a:prstGeom>
          <a:ln w="0">
            <a:noFill/>
          </a:ln>
        </p:spPr>
      </p:pic>
      <p:sp>
        <p:nvSpPr>
          <p:cNvPr id="69" name=""/>
          <p:cNvSpPr/>
          <p:nvPr/>
        </p:nvSpPr>
        <p:spPr>
          <a:xfrm>
            <a:off x="3124080" y="57913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Series-Level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743200" y="6338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Collection-Level Tracking</a:t>
            </a:r>
            <a:endParaRPr b="0" lang="en-US" sz="1800" spc="-1" strike="noStrike">
              <a:solidFill>
                <a:srgbClr val="000000"/>
              </a:solidFill>
              <a:latin typeface="Arial"/>
            </a:endParaRPr>
          </a:p>
        </p:txBody>
      </p:sp>
      <p:pic>
        <p:nvPicPr>
          <p:cNvPr id="71" name="" descr=""/>
          <p:cNvPicPr/>
          <p:nvPr/>
        </p:nvPicPr>
        <p:blipFill>
          <a:blip r:embed="rId1"/>
          <a:stretch/>
        </p:blipFill>
        <p:spPr>
          <a:xfrm>
            <a:off x="609480" y="228600"/>
            <a:ext cx="8077320" cy="613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TISTICS</a:t>
            </a:r>
            <a:endParaRPr b="0" lang="en-US" sz="1800" spc="-1" strike="noStrike">
              <a:solidFill>
                <a:srgbClr val="000000"/>
              </a:solidFill>
              <a:latin typeface="Arial"/>
            </a:endParaRPr>
          </a:p>
        </p:txBody>
      </p:sp>
      <p:sp>
        <p:nvSpPr>
          <p:cNvPr id="73" name="PlaceHolder 2"/>
          <p:cNvSpPr>
            <a:spLocks noGrp="1"/>
          </p:cNvSpPr>
          <p:nvPr>
            <p:ph/>
          </p:nvPr>
        </p:nvSpPr>
        <p:spPr>
          <a:xfrm>
            <a:off x="456840" y="380880"/>
            <a:ext cx="8534520" cy="64771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mall” Collec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u="sng">
                <a:solidFill>
                  <a:srgbClr val="000000"/>
                </a:solidFill>
                <a:uFillTx/>
                <a:latin typeface="Arial"/>
              </a:rPr>
              <a:t>Allan Macy Butler Papers, 1916-1986, bulk 1930-1969. (H MS c313)</a:t>
            </a:r>
            <a:r>
              <a:rPr b="0" lang="sv-SE" sz="1000" spc="-1" strike="noStrike">
                <a:solidFill>
                  <a:srgbClr val="000000"/>
                </a:solidFill>
                <a:latin typeface="Arial"/>
              </a:rPr>
              <a:t> </a:t>
            </a:r>
            <a:r>
              <a:rPr b="1" lang="sv-SE" sz="1000" spc="-1" strike="noStrike">
                <a:solidFill>
                  <a:srgbClr val="000000"/>
                </a:solidFill>
                <a:latin typeface="Arial"/>
              </a:rPr>
              <a:t>= 80.75 hours for 7.5 cubic fe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Review and Processing Plannin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6.00 hou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folder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17.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Folder List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6.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arrang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6.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crip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5.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Photocopy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Tasks (Misc.)</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arcoding and Label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1.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ject Track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7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roject archivist</a:t>
            </a:r>
            <a:r>
              <a:rPr b="1" lang="sv-SE" sz="1000" spc="-1" strike="noStrike">
                <a:solidFill>
                  <a:srgbClr val="000000"/>
                </a:solidFill>
                <a:latin typeface="Arial"/>
              </a:rPr>
              <a:t>	</a:t>
            </a:r>
            <a:r>
              <a:rPr b="0" lang="sv-SE" sz="1000" spc="-1" strike="noStrike">
                <a:solidFill>
                  <a:srgbClr val="000000"/>
                </a:solidFill>
                <a:latin typeface="Arial"/>
              </a:rPr>
              <a:t>= 48.50 hours</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32.25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af401d"/>
                </a:solidFill>
                <a:latin typeface="Arial"/>
              </a:rPr>
              <a:t>Average amount of time per cubic foot: 10.75 hour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Large” Collec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aumgartner, Leona, 1902-. Papers, 1930-1975 (bulk). (H MS c305)</a:t>
            </a:r>
            <a:r>
              <a:rPr b="0" lang="de-DE" sz="1000" spc="-1" strike="noStrike">
                <a:solidFill>
                  <a:srgbClr val="000000"/>
                </a:solidFill>
                <a:latin typeface="Arial"/>
              </a:rPr>
              <a:t> </a:t>
            </a:r>
            <a:r>
              <a:rPr b="1" lang="de-DE" sz="1000" spc="-1" strike="noStrike">
                <a:solidFill>
                  <a:srgbClr val="000000"/>
                </a:solidFill>
                <a:latin typeface="Arial"/>
              </a:rPr>
              <a:t>= 396.25 hours for 89 cubic fee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Review and Processing Plannin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74.50 hou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folder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104.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Folder List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90.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arrang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31.75</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box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2.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crip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1.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igitiza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7.5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Photocopy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6.75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Tasks (Misc.)</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8.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arcoding and Label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0.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ject Track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8.7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roject archivist</a:t>
            </a:r>
            <a:r>
              <a:rPr b="1" lang="sv-SE" sz="1000" spc="-1" strike="noStrike">
                <a:solidFill>
                  <a:srgbClr val="000000"/>
                </a:solidFill>
                <a:latin typeface="Arial"/>
              </a:rPr>
              <a:t>	</a:t>
            </a:r>
            <a:r>
              <a:rPr b="0" lang="sv-SE" sz="1000" spc="-1" strike="noStrike">
                <a:solidFill>
                  <a:srgbClr val="000000"/>
                </a:solidFill>
                <a:latin typeface="Arial"/>
              </a:rPr>
              <a:t>= 109.50 hours</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1" lang="sv-SE" sz="1000" spc="-1" strike="noStrike">
                <a:solidFill>
                  <a:srgbClr val="000000"/>
                </a:solidFill>
                <a:latin typeface="Arial"/>
              </a:rPr>
              <a:t>1</a:t>
            </a:r>
            <a:r>
              <a:rPr b="0" lang="sv-SE" sz="1000" spc="-1" strike="noStrike">
                <a:solidFill>
                  <a:srgbClr val="000000"/>
                </a:solidFill>
                <a:latin typeface="Arial"/>
              </a:rPr>
              <a:t>	</a:t>
            </a:r>
            <a:r>
              <a:rPr b="0" lang="sv-SE" sz="1000" spc="-1" strike="noStrike">
                <a:solidFill>
                  <a:srgbClr val="000000"/>
                </a:solidFill>
                <a:latin typeface="Arial"/>
              </a:rPr>
              <a:t>= 188.50</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1" lang="sv-SE" sz="1000" spc="-1" strike="noStrike">
                <a:solidFill>
                  <a:srgbClr val="000000"/>
                </a:solidFill>
                <a:latin typeface="Arial"/>
              </a:rPr>
              <a:t>2</a:t>
            </a:r>
            <a:r>
              <a:rPr b="0" lang="sv-SE" sz="1000" spc="-1" strike="noStrike">
                <a:solidFill>
                  <a:srgbClr val="000000"/>
                </a:solidFill>
                <a:latin typeface="Arial"/>
              </a:rPr>
              <a:t>	</a:t>
            </a:r>
            <a:r>
              <a:rPr b="0" lang="sv-SE" sz="1000" spc="-1" strike="noStrike">
                <a:solidFill>
                  <a:srgbClr val="000000"/>
                </a:solidFill>
                <a:latin typeface="Arial"/>
              </a:rPr>
              <a:t>=  098.25</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af401d"/>
                </a:solidFill>
                <a:latin typeface="Arial"/>
              </a:rPr>
              <a:t>Average amount of time per cubic foot: 4.5 hou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mall” Collection by Series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u="sng">
                <a:solidFill>
                  <a:srgbClr val="000000"/>
                </a:solidFill>
                <a:uFillTx/>
                <a:latin typeface="Arial"/>
              </a:rPr>
              <a:t>Allan Macy Butler Papers, 1916-1986, bulk 1930-1969. (H MS c313)</a:t>
            </a:r>
            <a:r>
              <a:rPr b="0" lang="sv-SE" sz="1000" spc="-1" strike="noStrike">
                <a:solidFill>
                  <a:srgbClr val="000000"/>
                </a:solidFill>
                <a:latin typeface="Arial"/>
              </a:rPr>
              <a:t> </a:t>
            </a:r>
            <a:r>
              <a:rPr b="1" lang="sv-SE" sz="1000" spc="-1" strike="noStrike">
                <a:solidFill>
                  <a:srgbClr val="000000"/>
                </a:solidFill>
                <a:latin typeface="Arial"/>
              </a:rPr>
              <a:t>= 7.5 cubic fee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1: Professional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1.50 cubic fee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4.25 hour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2: Research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75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00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3: Lecture, Speech, and Conference Fil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0.2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4: Activism and Political Activities Records </a:t>
            </a:r>
            <a:r>
              <a:rPr b="0" lang="en-US" sz="1000" spc="-1" strike="noStrike">
                <a:solidFill>
                  <a:srgbClr val="000000"/>
                </a:solidFill>
                <a:latin typeface="Arial"/>
              </a:rPr>
              <a:t>	</a:t>
            </a:r>
            <a:r>
              <a:rPr b="0" lang="en-US" sz="1000" spc="-1" strike="noStrike">
                <a:solidFill>
                  <a:srgbClr val="000000"/>
                </a:solidFill>
                <a:latin typeface="Arial"/>
              </a:rPr>
              <a:t> 3.00</a:t>
            </a:r>
            <a:r>
              <a:rPr b="0" lang="sv-SE"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25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5: Writings and Publications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0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6: Correspondence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50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5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7: Personal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50</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Total number of folders in collection: </a:t>
            </a:r>
            <a:r>
              <a:rPr b="1" lang="sv-SE" sz="1000" spc="-1" strike="noStrike">
                <a:solidFill>
                  <a:srgbClr val="000000"/>
                </a:solidFill>
                <a:latin typeface="Arial"/>
              </a:rPr>
              <a:t>20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a0210"/>
                </a:solidFill>
                <a:latin typeface="Arial"/>
              </a:rPr>
              <a:t>Average time: 2 hours per cubic foo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es </a:t>
            </a:r>
            <a:r>
              <a:rPr b="1" lang="en-US" sz="1000" spc="-1" strike="noStrike">
                <a:solidFill>
                  <a:srgbClr val="000000"/>
                </a:solidFill>
                <a:latin typeface="Arial"/>
              </a:rPr>
              <a:t>NOT</a:t>
            </a:r>
            <a:r>
              <a:rPr b="0" lang="en-US" sz="1000" spc="-1" strike="noStrike">
                <a:solidFill>
                  <a:srgbClr val="000000"/>
                </a:solidFill>
                <a:latin typeface="Arial"/>
              </a:rPr>
              <a:t> include collection review, processing plan, description, and digitization.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a:t>
            </a:r>
            <a:r>
              <a:rPr b="1" lang="sv-SE" sz="1000" spc="-1" strike="noStrike">
                <a:solidFill>
                  <a:srgbClr val="000000"/>
                </a:solidFill>
                <a:latin typeface="Arial"/>
              </a:rPr>
              <a:t>Large” Collection by Serie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aumgartner, Leona, 1902-. Papers, 1930-1975 (bulk). (H MS c305)</a:t>
            </a:r>
            <a:r>
              <a:rPr b="0" lang="de-DE" sz="1000" spc="-1" strike="noStrike">
                <a:solidFill>
                  <a:srgbClr val="000000"/>
                </a:solidFill>
                <a:latin typeface="Arial"/>
              </a:rPr>
              <a:t> </a:t>
            </a:r>
            <a:r>
              <a:rPr b="1" lang="de-DE" sz="1000" spc="-1" strike="noStrike">
                <a:solidFill>
                  <a:srgbClr val="000000"/>
                </a:solidFill>
                <a:latin typeface="Arial"/>
              </a:rPr>
              <a:t>= 89 cubic fee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1: Professional Activities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2 cubic feet</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27.25 hour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2: Professional Correspondence and Working Fil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7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88.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3: Speeches, Conferences, Lectures and Related Record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5.7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4: Writings and Publicatio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4.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5: Personal Record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5.5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number of folders in collection: </a:t>
            </a:r>
            <a:r>
              <a:rPr b="1" lang="en-US" sz="1000" spc="-1" strike="noStrike">
                <a:solidFill>
                  <a:srgbClr val="000000"/>
                </a:solidFill>
                <a:latin typeface="Arial"/>
              </a:rPr>
              <a:t>3342</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a0210"/>
                </a:solidFill>
                <a:latin typeface="Arial"/>
              </a:rPr>
              <a:t>Average time: 30 - 40 minutes per cubic foo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es </a:t>
            </a:r>
            <a:r>
              <a:rPr b="1" lang="en-US" sz="1000" spc="-1" strike="noStrike">
                <a:solidFill>
                  <a:srgbClr val="000000"/>
                </a:solidFill>
                <a:latin typeface="Arial"/>
              </a:rPr>
              <a:t>NOT</a:t>
            </a:r>
            <a:r>
              <a:rPr b="0" lang="en-US" sz="1000" spc="-1" strike="noStrike">
                <a:solidFill>
                  <a:srgbClr val="000000"/>
                </a:solidFill>
                <a:latin typeface="Arial"/>
              </a:rPr>
              <a:t> include collection review, processing plan, description, and digitization.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ssumptions</a:t>
            </a:r>
            <a:endParaRPr b="0" lang="en-US" sz="3200" spc="-1" strike="noStrike">
              <a:solidFill>
                <a:srgbClr val="000000"/>
              </a:solidFill>
              <a:latin typeface="Arial"/>
            </a:endParaRPr>
          </a:p>
        </p:txBody>
      </p:sp>
      <p:sp>
        <p:nvSpPr>
          <p:cNvPr id="7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for estimating workflow for collections when the following conditions app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accessioning procedur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physical condi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types of recor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 presence of analog/digital video, recordings, records, etc. (anything not paper-based)</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started to use this database to track the work of our individual processing archivists (those </a:t>
            </a:r>
            <a:r>
              <a:rPr b="0" lang="en-US" sz="1600" spc="-1" strike="noStrike" u="sng">
                <a:solidFill>
                  <a:srgbClr val="000000"/>
                </a:solidFill>
                <a:uFillTx/>
                <a:latin typeface="Arial"/>
              </a:rPr>
              <a:t>not</a:t>
            </a:r>
            <a:r>
              <a:rPr b="0" lang="en-US" sz="1600" spc="-1" strike="noStrike">
                <a:solidFill>
                  <a:srgbClr val="000000"/>
                </a:solidFill>
                <a:latin typeface="Arial"/>
              </a:rPr>
              <a:t> working in teams) and on different types of collections of varying sizes to compare result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enable us to create a “matrix” of conditions for ranking average amounts of time to do wh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p:txBody>
      </p:sp>
      <p:sp>
        <p:nvSpPr>
          <p:cNvPr id="78" name="PlaceHolder 2"/>
          <p:cNvSpPr>
            <a:spLocks noGrp="1"/>
          </p:cNvSpPr>
          <p:nvPr>
            <p:ph/>
          </p:nvPr>
        </p:nvSpPr>
        <p:spPr>
          <a:xfrm>
            <a:off x="380880" y="838080"/>
            <a:ext cx="8229600" cy="56390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regarding the amount of time to process collection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for the types of staffing needed per projec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for the amount of time it takes to process different types of records</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preservation statistics</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budget and grant proposal development</a:t>
            </a:r>
            <a:r>
              <a:rPr b="0" lang="en-US" sz="1600" spc="-1" strike="noStrike">
                <a:solidFill>
                  <a:srgbClr val="af401d"/>
                </a:solidFill>
                <a:latin typeface="Arial"/>
              </a:rPr>
              <a: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hours on average needed for professional staff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hours on average for LHTS/paraprofessionals/grad students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realistic assessment of how project labor can be divided</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ca02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a0210"/>
                </a:solidFill>
                <a:latin typeface="Arial"/>
              </a:rPr>
              <a:t>Return on invest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think about the relationship between our investment in description and how useful that description is to researcher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cost – in time and money – of providing acc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ly Engagement Study</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ative and quantitative assessment underway regarding the delivery of folde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s in advance of full finding aid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y exercise and post-exercise interview administered to new and experience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public health professionals, public health students, and informa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essional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reading room survey questionnaire containing questions from part one of exercise regarding access preferenc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spons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 very difficult choice for an archivist, who also happens to do some research. While I think that</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viding researchers with bibliographic data and administrative history, as well as some sense of the </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ganization and history of the ownership of the collection, is useful and eventually necessary, it is </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re immediately important to provide acces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1447920"/>
            <a:ext cx="815364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ank you!</a:t>
            </a:r>
            <a:br>
              <a:rPr sz="5400"/>
            </a:br>
            <a:br>
              <a:rPr sz="5400"/>
            </a:br>
            <a:br>
              <a:rPr sz="5400"/>
            </a:br>
            <a:br>
              <a:rPr sz="5400"/>
            </a:br>
            <a:r>
              <a:rPr b="0" i="1" lang="en-US" sz="1400" spc="-1" strike="noStrike" u="sng">
                <a:solidFill>
                  <a:srgbClr val="000000"/>
                </a:solidFill>
                <a:uFillTx/>
                <a:latin typeface="Arial"/>
              </a:rPr>
              <a:t>emily_gustainis@hms.harvard.edu</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troduction and Objectives</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ess to unprocessed collections that speak to the origins and future direction of our contemporary health care system.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constituency cultivation, including collection development, community building,  and the assessment of processing deliverables by different types of researchers.</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workflow documentation (the “meta” part of the projec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ize processing activities</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data on the time it takes to complete processing activities employing our brand of MPLP</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uthor proposes that instead of trying to maintain an ideal standard of processing, we look at processing as a range of choices along a continuum for each of the four essential processing activities: arrangement, preservation, description, and screening. The continuum runs from the found, or original, state of the material up to the highest possible level of each activity, e.g., a calendared collection where each item is individually filed in an acid neutral folder in an acid neutral box.</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egan Floyd Desnoyers -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essay, “When is a Collection Processed?”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Midwest Archivist 7</a:t>
            </a:r>
            <a:r>
              <a:rPr b="0" lang="en-US" sz="1600" spc="-1" strike="noStrike">
                <a:solidFill>
                  <a:srgbClr val="000000"/>
                </a:solidFill>
                <a:latin typeface="Arial"/>
              </a:rPr>
              <a:t> (1, 1982): 5-23.</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PLP: Applications</a:t>
            </a:r>
            <a:endParaRPr b="0" lang="en-US" sz="3200" spc="-1" strike="noStrike">
              <a:solidFill>
                <a:srgbClr val="000000"/>
              </a:solidFill>
              <a:latin typeface="Arial"/>
            </a:endParaRPr>
          </a:p>
        </p:txBody>
      </p:sp>
      <p:sp>
        <p:nvSpPr>
          <p:cNvPr id="55"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izatio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ing our processing approach to researcher nee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collections to levels of practice rather than imposing uniform practice on all collections</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review and processing pla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subseries determined as a result of initial review and reflected in work plan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s generally  assume processing to level II-B, a refinement of the processing levels drafted by Harvard Committees for a University-wide survey of repository holdings in 2009</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divided</a:t>
            </a:r>
            <a:endParaRPr b="0" lang="en-US" sz="1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 listing is ke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ation activities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contents from hanging files and “original” folders and re-house in acid free fold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photographs with manuscript materials (using sleeves or buff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sticky notes and discard. (We photocopy any notes that have any “added-value” content and are not just repeating what is on the folder tit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nly remove paperclips and staples if they are obviously damaging the document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g original newspaper clippings for eventual copying to acid free paper and discard. May or may not do this at conclusion of process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graphical note authored separately; descriptive elements maintained in Word doc, but actual finding aid authored using XML template </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oding</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value added” EAD tagg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etrics Capture</a:t>
            </a:r>
            <a:endParaRPr b="0" lang="en-US" sz="3200" spc="-1" strike="noStrike">
              <a:solidFill>
                <a:srgbClr val="000000"/>
              </a:solidFill>
              <a:latin typeface="Arial"/>
            </a:endParaRPr>
          </a:p>
        </p:txBody>
      </p:sp>
      <p:sp>
        <p:nvSpPr>
          <p:cNvPr id="57"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oft Access database used by all project participants 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 daily activities related to series (or subseries, etc.) to quarter hou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coding and Label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ion Review and Processing Plann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iza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der Listing (in spreadshee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Tracking (the amount of time we are taking to track the amount of time it is tak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rang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 Photocopy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 Tasks (Misc.)</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x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oldering</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 amount spent for all activities per record center carton/cubic foo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polate amount of time spent per series by adding up time spent on each box in that seri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k progress on collection as a whol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 Poll…</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en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6% do not keep statistics on collections processed in a calendar or fiscal ye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7.3% do not measure the amount of time they spend on creating processing pla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8% do not keep statistics on box and folder list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4% do not keep statistics on preservation photocopy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9% do not keep statistics on miscellaneous preservation activiti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8% do not keep statistics on arrange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0% do not keep statistics on descrip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5% do not keep statistics on creating and encoding finding aid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1% do not keep statistics on digitiz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9% do not keep statistics on box labeling and bar cod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u="sng">
                <a:solidFill>
                  <a:srgbClr val="009999"/>
                </a:solidFill>
                <a:uFillTx/>
                <a:latin typeface="Arial"/>
                <a:hlinkClick r:id="rId1"/>
              </a:rPr>
              <a:t>http://www.surveymonkey.com/s/MFSQKZ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6320" y="844560"/>
            <a:ext cx="8915400" cy="5327640"/>
          </a:xfrm>
          <a:prstGeom prst="rect">
            <a:avLst/>
          </a:prstGeom>
          <a:ln w="0">
            <a:noFill/>
          </a:ln>
        </p:spPr>
      </p:pic>
      <p:sp>
        <p:nvSpPr>
          <p:cNvPr id="61" name=""/>
          <p:cNvSpPr/>
          <p:nvPr/>
        </p:nvSpPr>
        <p:spPr>
          <a:xfrm>
            <a:off x="3276720" y="633888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tabase Tables</a:t>
            </a:r>
            <a:endParaRPr b="0" lang="en-US" sz="1800" spc="-1" strike="noStrike">
              <a:solidFill>
                <a:srgbClr val="000000"/>
              </a:solidFill>
              <a:latin typeface="Arial"/>
            </a:endParaRPr>
          </a:p>
        </p:txBody>
      </p:sp>
      <p:sp>
        <p:nvSpPr>
          <p:cNvPr id="62" name=""/>
          <p:cNvSpPr/>
          <p:nvPr/>
        </p:nvSpPr>
        <p:spPr>
          <a:xfrm>
            <a:off x="3124080" y="15228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sh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914400"/>
            <a:ext cx="8610480" cy="4448160"/>
          </a:xfrm>
          <a:prstGeom prst="rect">
            <a:avLst/>
          </a:prstGeom>
          <a:ln w="0">
            <a:noFill/>
          </a:ln>
        </p:spPr>
      </p:pic>
      <p:sp>
        <p:nvSpPr>
          <p:cNvPr id="64" name=""/>
          <p:cNvSpPr/>
          <p:nvPr/>
        </p:nvSpPr>
        <p:spPr>
          <a:xfrm>
            <a:off x="3429000" y="5943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ily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2520" y="304920"/>
            <a:ext cx="8234280" cy="5843520"/>
          </a:xfrm>
          <a:prstGeom prst="rect">
            <a:avLst/>
          </a:prstGeom>
          <a:ln w="0">
            <a:noFill/>
          </a:ln>
        </p:spPr>
      </p:pic>
      <p:sp>
        <p:nvSpPr>
          <p:cNvPr id="66" name=""/>
          <p:cNvSpPr/>
          <p:nvPr/>
        </p:nvSpPr>
        <p:spPr>
          <a:xfrm>
            <a:off x="3352680" y="63244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Box-Level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6:34:55Z</dcterms:created>
  <dc:creator>ERN6</dc:creator>
  <dc:description/>
  <dc:language>en-US</dc:language>
  <cp:lastModifiedBy>ERN6</cp:lastModifiedBy>
  <dcterms:modified xsi:type="dcterms:W3CDTF">2010-03-28T21:49:18Z</dcterms:modified>
  <cp:revision>101</cp:revision>
  <dc:subject/>
  <dc:title>Foundations of  Public Health Policy</dc:title>
</cp:coreProperties>
</file>