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CF0540-0722-4C7A-BB27-3F69C15263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3370D2-BD41-4D0A-B169-ABD24209A0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7C858F-58A0-47B0-8756-CE31E92EC5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869183-C1B9-4187-A334-E53E5B005B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DD4128-6337-43AB-ABE3-01CE385B3C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C0B9A1-FDAE-4BC1-857E-5E7AA3C3BC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BC069E-2BB5-4B94-9868-062C71D9FF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DE140C-343C-429A-8F73-E2ED1DB01A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B7F915-20F2-47FF-8684-537C71499C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6B8A3-A2B7-414F-B41D-1AB6E9333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E6DC7-93E8-41C9-8E93-C2C836695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BA746-9187-42E4-B336-850E143855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B9611-E563-483A-ADEA-2DF40AE5A13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609120"/>
            <a:ext cx="8229600" cy="884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lez-vous français?</a:t>
            </a:r>
            <a:endParaRPr b="0" lang="en-US" sz="4400" spc="-1" strike="noStrike">
              <a:solidFill>
                <a:srgbClr val="000000"/>
              </a:solidFill>
              <a:latin typeface="Calibri"/>
            </a:endParaRPr>
          </a:p>
        </p:txBody>
      </p:sp>
      <p:pic>
        <p:nvPicPr>
          <p:cNvPr id="42" name="Content Placeholder 3" descr="frcaisle.jpg"/>
          <p:cNvPicPr/>
          <p:nvPr/>
        </p:nvPicPr>
        <p:blipFill>
          <a:blip r:embed="rId1"/>
          <a:stretch/>
        </p:blipFill>
        <p:spPr>
          <a:xfrm>
            <a:off x="2133720" y="2222640"/>
            <a:ext cx="5333760" cy="3765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Content Placeholder 3" descr="convocation.jpg"/>
          <p:cNvPicPr/>
          <p:nvPr/>
        </p:nvPicPr>
        <p:blipFill>
          <a:blip r:embed="rId1"/>
          <a:stretch/>
        </p:blipFill>
        <p:spPr>
          <a:xfrm>
            <a:off x="1752480" y="311040"/>
            <a:ext cx="5181840" cy="6527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Content Placeholder 3" descr="eye.jpg"/>
          <p:cNvPicPr/>
          <p:nvPr/>
        </p:nvPicPr>
        <p:blipFill>
          <a:blip r:embed="rId1"/>
          <a:stretch/>
        </p:blipFill>
        <p:spPr>
          <a:xfrm>
            <a:off x="1143000" y="162000"/>
            <a:ext cx="6172200" cy="6661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lpful</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mon features allow for use of cataloging templates, constant data, macros</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mon topics/themes and names/organizations allow Cataloging Assistants to develop expertise with subject headings, authorized name forms</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isting, sequential call numbering</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nsparent titl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520"/>
            <a:ext cx="82296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llenging</a:t>
            </a:r>
            <a:endParaRPr b="0" lang="en-US" sz="4400" spc="-1" strike="noStrike">
              <a:solidFill>
                <a:srgbClr val="000000"/>
              </a:solidFill>
              <a:latin typeface="Calibri"/>
            </a:endParaRPr>
          </a:p>
        </p:txBody>
      </p:sp>
      <p:sp>
        <p:nvSpPr>
          <p:cNvPr id="61" name=""/>
          <p:cNvSpPr txBox="1"/>
          <p:nvPr/>
        </p:nvSpPr>
        <p:spPr>
          <a:xfrm>
            <a:off x="457200" y="2133720"/>
            <a:ext cx="8229600" cy="3200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seudonym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ed to distinguish between similar material</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s that an 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Item-Level MARC Records?</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Jansenist Collection</a:t>
            </a:r>
            <a:r>
              <a:rPr b="0" lang="en-US" sz="1800" spc="-1" strike="noStrike">
                <a:solidFill>
                  <a:srgbClr val="000000"/>
                </a:solidFill>
                <a:latin typeface="Calibri"/>
              </a:rPr>
              <a:t>: In the 1970s, the Newberry acquired a Jansenist collection from seminary libraries of the Old Catholic Church of the Netherlands.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rench Laws on Censorship</a:t>
            </a:r>
            <a:r>
              <a:rPr b="0" lang="en-US" sz="1800" spc="-1" strike="noStrike">
                <a:solidFill>
                  <a:srgbClr val="000000"/>
                </a:solidFill>
                <a:latin typeface="Calibri"/>
              </a:rPr>
              <a:t>:  The John M. Wing Collection contains a collection of French laws concerning regulation of the press from 1513-1829 (around 1,200 items separately listed in the online catalog).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arly French Political Pamphlets</a:t>
            </a:r>
            <a:r>
              <a:rPr b="0" lang="en-US" sz="1800" spc="-1" strike="noStrike">
                <a:solidFill>
                  <a:srgbClr val="000000"/>
                </a:solidFill>
                <a:latin typeface="Calibri"/>
              </a:rPr>
              <a:t>: The Newberry has about 3,000 French political pamphlets published from 1560 to 1653.  Nearly all of these pamphlets are individually cataloged in the Newberry’s online catalog.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rench Revolution Collection</a:t>
            </a:r>
            <a:r>
              <a:rPr b="0" lang="en-US" sz="1800" spc="-1" strike="noStrike">
                <a:solidFill>
                  <a:srgbClr val="000000"/>
                </a:solidFill>
                <a:latin typeface="Calibri"/>
              </a:rPr>
              <a:t>: 11,OOO anonymously authored pamphlets.</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ousands of British and American Pamphlets.</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ooked at University Models using Subject Specialists/Students</a:t>
            </a:r>
            <a:endParaRPr b="0" lang="en-US" sz="4000" spc="-1" strike="noStrike">
              <a:solidFill>
                <a:srgbClr val="000000"/>
              </a:solidFill>
              <a:latin typeface="Calibri"/>
            </a:endParaRPr>
          </a:p>
        </p:txBody>
      </p:sp>
      <p:sp>
        <p:nvSpPr>
          <p:cNvPr id="65" name=""/>
          <p:cNvSpPr txBox="1"/>
          <p:nvPr/>
        </p:nvSpPr>
        <p:spPr>
          <a:xfrm>
            <a:off x="457200" y="2133720"/>
            <a:ext cx="8229600" cy="3992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ewberry is not part of a Universit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earch Center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ong history of outreach and service to schola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enter for Renaissance Studies</a:t>
            </a:r>
            <a:br>
              <a:rPr sz="4000"/>
            </a:b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resentative Council members (about 60 people, representing 50 different universities)</a:t>
            </a:r>
            <a:br>
              <a:rPr sz="3200"/>
            </a:b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tabase of scholars who either teach at or study at French departments at the 50 Renaissance Center consortium institutions (mostly U.S., but a few in Canada and the U.K.)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aculty Connection</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ail announcement to 4 local professors from the Cent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professor of French literature at University of  Chicago gave the posting to her stud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b Description</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 </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endParaRPr b="0" lang="en-US" sz="13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ITLE:</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Project Cataloging Assistant </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DEPARTMENT:</a:t>
            </a:r>
            <a:r>
              <a:rPr b="0" lang="en-US" sz="1400" spc="-1" strike="noStrike">
                <a:solidFill>
                  <a:srgbClr val="000000"/>
                </a:solidFill>
                <a:latin typeface="Calibri"/>
              </a:rPr>
              <a:t>        </a:t>
            </a:r>
            <a:r>
              <a:rPr b="0" lang="en-US" sz="1400" spc="-1" strike="noStrike">
                <a:solidFill>
                  <a:srgbClr val="000000"/>
                </a:solidFill>
                <a:latin typeface="Calibri"/>
              </a:rPr>
              <a:t>	</a:t>
            </a:r>
            <a:r>
              <a:rPr b="0" lang="en-US" sz="1600" spc="-1" strike="noStrike">
                <a:solidFill>
                  <a:srgbClr val="000000"/>
                </a:solidFill>
                <a:latin typeface="Calibri"/>
              </a:rPr>
              <a:t>Collection</a:t>
            </a:r>
            <a:r>
              <a:rPr b="0" lang="en-US" sz="1400" spc="-1" strike="noStrike">
                <a:solidFill>
                  <a:srgbClr val="000000"/>
                </a:solidFill>
                <a:latin typeface="Calibri"/>
              </a:rPr>
              <a:t> Services</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UMMARY:</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Project Cataloging Assistants will edit and create item-level MARC records for 22,000 French pamphlets, the bulk of which were published in France between 1780 and 1810. These positions are part of a Council on Library and Information Resources (CLIR) Cataloging Hidden Special Collections and Archives grant. With generous funding from The Andrew W. Mellon Foundation, CLIR administers this national program to identify and catalog hidden special collections and archives.</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porting to the Cataloging Projects Manager, the Project Catalog Assistants will work closely with a professional Cataloging Librarian to produce records that meet local and national library cataloging standards. Full-time Project Cataloging Assistants will be expected to produce approximately 145 records per month.  </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Newberry Library is an independent research library concentrating in the humanities, with an active cultural and educational presence in Chicago.   Free and open to the public, the Newberry is home to a world-class collection of books, manuscripts, maps, music, and other printed materials related to the history and culture of Western Europe and the Americas. The collections span many centuries and feature items such as illuminated medieval manuscripts, rare early maps, rich genealogical resources, and the personal papers of Midwest authors. </a:t>
            </a:r>
            <a:endParaRPr b="0" lang="en-US" sz="14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457200" y="533160"/>
            <a:ext cx="8229600" cy="55926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SPONSIBILITI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erform complex copy cataloging and some original cataloging for French pamphlet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arch OCLC Connexion and the Newberry catalog (Voyager) for bibliographic and authority record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erify and edit records in OCLC Connexion and the Newberry catalog (Voyager) applying current cataloging and description resources to meet local practices, consortium requirements and national standards (AACR2, LC Classification, LC Subject headings, LC Authorities, MARC21)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rticipate in department and grant team meeting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y close attention to quality and quantity of cataloging outpu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ffectively manage tim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lez-vous français?</a:t>
            </a:r>
            <a:endParaRPr b="0" lang="en-US" sz="4400" spc="-1" strike="noStrike">
              <a:solidFill>
                <a:srgbClr val="000000"/>
              </a:solidFill>
              <a:latin typeface="Calibri"/>
            </a:endParaRPr>
          </a:p>
        </p:txBody>
      </p:sp>
      <p:pic>
        <p:nvPicPr>
          <p:cNvPr id="44" name="Content Placeholder 3" descr="bastille.jpg"/>
          <p:cNvPicPr/>
          <p:nvPr/>
        </p:nvPicPr>
        <p:blipFill>
          <a:blip r:embed="rId1"/>
          <a:stretch/>
        </p:blipFill>
        <p:spPr>
          <a:xfrm>
            <a:off x="2433600" y="1719360"/>
            <a:ext cx="4276800" cy="4286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57200" y="304560"/>
            <a:ext cx="8229600" cy="6095880"/>
          </a:xfrm>
          <a:prstGeom prst="rect">
            <a:avLst/>
          </a:prstGeom>
          <a:noFill/>
          <a:ln w="0">
            <a:noFill/>
          </a:ln>
        </p:spPr>
        <p:txBody>
          <a:bodyPr anchor="t">
            <a:normAutofit fontScale="99000"/>
          </a:bodyPr>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QUALIFICATIONS:</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quired: </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rench language fluency (reading comprehension skills will be tested.)</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perience using library catalogs.</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uter proficiency in Internet searching and in the Microsoft Windows environment, including, but not limited to, Microsoft Word, Microsoft Excel and electronic mail.</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bility to work independently with close attention to detail, accuracy and production expectations. </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bility to follow instructions and organize time and work on multiple projects.</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bility to maintain and establish effective work relationships.</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bility to communicate effectively in oral and written form. </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ferred: </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raduate M.A. or Ph.D. candidate; knowledge of French history or </a:t>
            </a:r>
            <a:br>
              <a:rPr sz="2000"/>
            </a:br>
            <a:r>
              <a:rPr b="0" lang="en-US" sz="2000" spc="-1" strike="noStrike">
                <a:solidFill>
                  <a:srgbClr val="000000"/>
                </a:solidFill>
                <a:latin typeface="Calibri"/>
              </a:rPr>
              <a:t>literature.</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urse work in a Library Science program and/or library technical services department experience using OCLC and a cataloging module of an integrated library system.</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nowledge of AACR2, LC Classification, LC Subject headings, LC Authorities, MARC21. </a:t>
            </a:r>
            <a:endParaRPr b="0" lang="en-US" sz="2000" spc="-1" strike="noStrike">
              <a:solidFill>
                <a:srgbClr val="000000"/>
              </a:solidFill>
              <a:latin typeface="Calibri"/>
            </a:endParaRPr>
          </a:p>
          <a:p>
            <a:pPr marL="339480" indent="-3394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9480" indent="-3394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9140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views</a:t>
            </a:r>
            <a:endParaRPr b="0" lang="en-US" sz="4400" spc="-1" strike="noStrike">
              <a:solidFill>
                <a:srgbClr val="000000"/>
              </a:solidFill>
              <a:latin typeface="Calibri"/>
            </a:endParaRPr>
          </a:p>
        </p:txBody>
      </p:sp>
      <p:sp>
        <p:nvSpPr>
          <p:cNvPr id="75" name=""/>
          <p:cNvSpPr txBox="1"/>
          <p:nvPr/>
        </p:nvSpPr>
        <p:spPr>
          <a:xfrm>
            <a:off x="457200" y="2438280"/>
            <a:ext cx="8229600" cy="27432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ench Language Skill Tes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mittee Interview</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view/Discussion of a MARC Record for the Test Pamphle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llection Tou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Content Placeholder 3" descr="text.jpg"/>
          <p:cNvPicPr/>
          <p:nvPr/>
        </p:nvPicPr>
        <p:blipFill>
          <a:blip r:embed="rId1"/>
          <a:stretch/>
        </p:blipFill>
        <p:spPr>
          <a:xfrm>
            <a:off x="2362320" y="111240"/>
            <a:ext cx="3886200" cy="6597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aff</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FTE entry-level librarian with no prior cataloging experie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FTE graduate with B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 FTE French Literature PhD. Stud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 FTE  MILS stud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Full-time Cataloger (Er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7 hours from experienced Project Catalog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8088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90-Day Evaluation</a:t>
            </a:r>
            <a:endParaRPr b="0" lang="en-US" sz="4000" spc="-1" strike="noStrike">
              <a:solidFill>
                <a:srgbClr val="000000"/>
              </a:solidFill>
              <a:latin typeface="Calibri"/>
            </a:endParaRPr>
          </a:p>
        </p:txBody>
      </p:sp>
      <p:sp>
        <p:nvSpPr>
          <p:cNvPr id="80" name=""/>
          <p:cNvSpPr txBox="1"/>
          <p:nvPr/>
        </p:nvSpPr>
        <p:spPr>
          <a:xfrm>
            <a:off x="457200" y="1066680"/>
            <a:ext cx="8229600" cy="5059440"/>
          </a:xfrm>
          <a:prstGeom prst="rect">
            <a:avLst/>
          </a:prstGeom>
          <a:noFill/>
          <a:ln w="0">
            <a:noFill/>
          </a:ln>
        </p:spPr>
        <p:txBody>
          <a:bodyPr anchor="t">
            <a:normAutofit fontScale="99000"/>
          </a:bodyPr>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hile the average productivity expectations (145 per-month/full-time and 83 per-month/part-time) will not be attained in the review period, at the end of 90 days Project Cataloging Assistants will be expected to produce complete MARC records and demonstrate progress toward production goals and improved accuracy.</a:t>
            </a:r>
            <a:endParaRPr b="0" lang="en-US" sz="1800" spc="-1" strike="noStrike">
              <a:solidFill>
                <a:srgbClr val="000000"/>
              </a:solidFill>
              <a:latin typeface="Calibri"/>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oject Catalog Assistants will demonstrate knowledge and ability of the following:</a:t>
            </a:r>
            <a:endParaRPr b="0" lang="en-US" sz="1800" spc="-1" strike="noStrike">
              <a:solidFill>
                <a:srgbClr val="000000"/>
              </a:solidFill>
              <a:latin typeface="Calibri"/>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arch, Match and Select Records</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arch pamphlets in Connexion using a variety of strategies</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termine if a record is an appropriate match for the pamphlet or if new record should be created</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hoose a “best match” when multiple matching records are available</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cognize when the Newberry already has holdings attached to a record in Connexion</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cognize non-English language records; derive parallel records</a:t>
            </a:r>
            <a:endParaRPr b="0" lang="en-US" sz="1800" spc="-1" strike="noStrike">
              <a:solidFill>
                <a:srgbClr val="000000"/>
              </a:solidFill>
              <a:latin typeface="Calibri"/>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90-Day Evaluation</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fontScale="90000"/>
          </a:bodyPr>
          <a:p>
            <a:pPr marL="308520" indent="-3085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reate, Edit and Derive MARC Records</a:t>
            </a:r>
            <a:r>
              <a:rPr b="1" i="1" lang="en-US" sz="1800" spc="-1" strike="noStrike">
                <a:solidFill>
                  <a:srgbClr val="000000"/>
                </a:solidFill>
                <a:latin typeface="Calibri"/>
              </a:rPr>
              <a:t> </a:t>
            </a:r>
            <a:endParaRPr b="0" lang="en-US" sz="1800" spc="-1" strike="noStrike">
              <a:solidFill>
                <a:srgbClr val="000000"/>
              </a:solidFill>
              <a:latin typeface="Calibri"/>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cognize various sources of information within a pamphlet; select the best source of information</a:t>
            </a:r>
            <a:endParaRPr b="0" lang="en-US" sz="1800" spc="-1" strike="noStrike">
              <a:solidFill>
                <a:srgbClr val="000000"/>
              </a:solidFill>
              <a:latin typeface="Calibri"/>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monstrate understanding of fixed fields, codes most often used in these fields, and recognize when a less common code is needed</a:t>
            </a:r>
            <a:endParaRPr b="0" lang="en-US" sz="1800" spc="-1" strike="noStrike">
              <a:solidFill>
                <a:srgbClr val="000000"/>
              </a:solidFill>
              <a:latin typeface="Calibri"/>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appropriate indicators, subfields, punctuation, and capitalization</a:t>
            </a:r>
            <a:endParaRPr b="0" lang="en-US" sz="1800" spc="-1" strike="noStrike">
              <a:solidFill>
                <a:srgbClr val="000000"/>
              </a:solidFill>
              <a:latin typeface="Calibri"/>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monstrate understanding of the key concepts </a:t>
            </a:r>
            <a:r>
              <a:rPr b="0" i="1" lang="en-US" sz="1800" spc="-1" strike="noStrike">
                <a:solidFill>
                  <a:srgbClr val="000000"/>
                </a:solidFill>
                <a:latin typeface="Calibri"/>
              </a:rPr>
              <a:t>Main Entry</a:t>
            </a:r>
            <a:r>
              <a:rPr b="0" lang="en-US" sz="1800" spc="-1" strike="noStrike">
                <a:solidFill>
                  <a:srgbClr val="000000"/>
                </a:solidFill>
                <a:latin typeface="Calibri"/>
              </a:rPr>
              <a:t> and </a:t>
            </a:r>
            <a:r>
              <a:rPr b="0" i="1" lang="en-US" sz="1800" spc="-1" strike="noStrike">
                <a:solidFill>
                  <a:srgbClr val="000000"/>
                </a:solidFill>
                <a:latin typeface="Calibri"/>
              </a:rPr>
              <a:t>Added Entry;</a:t>
            </a:r>
            <a:r>
              <a:rPr b="0" lang="en-US" sz="1800" spc="-1" strike="noStrike">
                <a:solidFill>
                  <a:srgbClr val="000000"/>
                </a:solidFill>
                <a:latin typeface="Calibri"/>
              </a:rPr>
              <a:t> determine if an individual/organization has an authorship role</a:t>
            </a:r>
            <a:endParaRPr b="0" lang="en-US" sz="1800" spc="-1" strike="noStrike">
              <a:solidFill>
                <a:srgbClr val="000000"/>
              </a:solidFill>
              <a:latin typeface="Calibri"/>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dentify and include appropriate forms of frequently encountered names/organizations/subjects in 1xx /7xx fields and 6xx fields</a:t>
            </a:r>
            <a:endParaRPr b="0" lang="en-US" sz="1800" spc="-1" strike="noStrike">
              <a:solidFill>
                <a:srgbClr val="000000"/>
              </a:solidFill>
              <a:latin typeface="Calibri"/>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dentify names/organization/subjects that are not frequently encountered and work with Catalog Librarian to add 1xx/7xx and 6xx fields for them</a:t>
            </a:r>
            <a:endParaRPr b="0" lang="en-US" sz="1800" spc="-1" strike="noStrike">
              <a:solidFill>
                <a:srgbClr val="000000"/>
              </a:solidFill>
              <a:latin typeface="Calibri"/>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truct clear and concise notes as needed</a:t>
            </a:r>
            <a:endParaRPr b="0" lang="en-US" sz="1800" spc="-1" strike="noStrike">
              <a:solidFill>
                <a:srgbClr val="000000"/>
              </a:solidFill>
              <a:latin typeface="Calibri"/>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d Martin &amp; Walter citations</a:t>
            </a:r>
            <a:endParaRPr b="0" lang="en-US" sz="1800" spc="-1" strike="noStrike">
              <a:solidFill>
                <a:srgbClr val="000000"/>
              </a:solidFill>
              <a:latin typeface="Calibri"/>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rive parallel records</a:t>
            </a:r>
            <a:endParaRPr b="0" lang="en-US" sz="1800" spc="-1" strike="noStrike">
              <a:solidFill>
                <a:srgbClr val="000000"/>
              </a:solidFill>
              <a:latin typeface="Calibri"/>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ve, search and retrieve records to a Save File</a:t>
            </a:r>
            <a:endParaRPr b="0" lang="en-US" sz="1800" spc="-1" strike="noStrike">
              <a:solidFill>
                <a:srgbClr val="000000"/>
              </a:solidFill>
              <a:latin typeface="Calibri"/>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constant data</a:t>
            </a:r>
            <a:endParaRPr b="0" lang="en-US" sz="1800" spc="-1" strike="noStrike">
              <a:solidFill>
                <a:srgbClr val="000000"/>
              </a:solidFill>
              <a:latin typeface="Calibri"/>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Text Strings set up in Connexion</a:t>
            </a:r>
            <a:endParaRPr b="0" lang="en-US" sz="1800" spc="-1" strike="noStrike">
              <a:solidFill>
                <a:srgbClr val="000000"/>
              </a:solidFill>
              <a:latin typeface="Calibri"/>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lidate headings</a:t>
            </a:r>
            <a:endParaRPr b="0" lang="en-US" sz="1800" spc="-1" strike="noStrike">
              <a:solidFill>
                <a:srgbClr val="000000"/>
              </a:solidFill>
              <a:latin typeface="Calibri"/>
            </a:endParaRPr>
          </a:p>
          <a:p>
            <a:pPr marL="308520" indent="-3085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90-Day Evaluation</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rench Language Competency</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view French pamphlets to determine key names, organizations and topic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vert French Republican Calendar dates to standard date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1" lang="en-US" sz="1800" spc="-1" strike="noStrike">
                <a:solidFill>
                  <a:srgbClr val="000000"/>
                </a:solidFill>
                <a:latin typeface="Calibri"/>
              </a:rPr>
              <a:t>Time Management/Teamwork Skill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municate effectively with Project Cataloger and other Project Cataloging Assistant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rticipate in CLIR project training and wiki</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fficiently complete above tasks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ining</a:t>
            </a:r>
            <a:endParaRPr b="0" lang="en-US" sz="4400" spc="-1" strike="noStrike">
              <a:solidFill>
                <a:srgbClr val="000000"/>
              </a:solidFill>
              <a:latin typeface="Calibri"/>
            </a:endParaRPr>
          </a:p>
        </p:txBody>
      </p:sp>
      <p:sp>
        <p:nvSpPr>
          <p:cNvPr id="86" name="PlaceHolder 2"/>
          <p:cNvSpPr>
            <a:spLocks noGrp="1"/>
          </p:cNvSpPr>
          <p:nvPr>
            <p:ph type="subTitle"/>
          </p:nvPr>
        </p:nvSpPr>
        <p:spPr>
          <a:xfrm>
            <a:off x="1371600" y="2057400"/>
            <a:ext cx="6400800" cy="3581280"/>
          </a:xfrm>
          <a:prstGeom prst="rect">
            <a:avLst/>
          </a:prstGeom>
          <a:noFill/>
          <a:ln w="0">
            <a:noFill/>
          </a:ln>
        </p:spPr>
        <p:txBody>
          <a:bodyPr anchor="t">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Calibri"/>
              </a:rPr>
              <a:t>1. Identify What is Important </a:t>
            </a:r>
            <a:endParaRPr b="0" lang="en-US" sz="3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Calibri"/>
              </a:rPr>
              <a:t>What does “rapid cataloging” mean for our institution and for this collection?</a:t>
            </a:r>
            <a:endParaRPr b="0" lang="en-US" sz="3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Calibri"/>
              </a:rPr>
              <a:t>Bibliographic Description</a:t>
            </a:r>
            <a:endParaRPr b="0" lang="en-US" sz="3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Calibri"/>
              </a:rPr>
              <a:t>Subject Analysi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ining</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Tailor your training to the strengths and experience of the Cataloging Assistan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background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French Languag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French History/Literatur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Library Scie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ining</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Identify/Gather Training Tool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lendar converter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bliographies – printers, biographical information, encyclopedia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taloging training tools put together by other librari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subTitle"/>
          </p:nvPr>
        </p:nvSpPr>
        <p:spPr>
          <a:xfrm>
            <a:off x="1371600" y="456840"/>
            <a:ext cx="6400800" cy="5791320"/>
          </a:xfrm>
          <a:prstGeom prst="rect">
            <a:avLst/>
          </a:prstGeom>
          <a:noFill/>
          <a:ln w="0">
            <a:noFill/>
          </a:ln>
        </p:spPr>
        <p:txBody>
          <a:bodyPr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Finding and Training Subject Specialists to Catalog 18</a:t>
            </a:r>
            <a:r>
              <a:rPr b="0" lang="en-US" sz="3200" spc="-1" strike="noStrike" baseline="30000">
                <a:solidFill>
                  <a:srgbClr val="898989"/>
                </a:solidFill>
                <a:latin typeface="Calibri"/>
              </a:rPr>
              <a:t>th</a:t>
            </a:r>
            <a:r>
              <a:rPr b="0" lang="en-US" sz="3200" spc="-1" strike="noStrike">
                <a:solidFill>
                  <a:srgbClr val="898989"/>
                </a:solidFill>
                <a:latin typeface="Calibri"/>
              </a:rPr>
              <a:t> century French Pamphlets</a:t>
            </a: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Jennifer Thom &amp; Eric Nygren</a:t>
            </a: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Newberry Library</a:t>
            </a: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6" name="Picture 3" descr="laloi.jpg"/>
          <p:cNvPicPr/>
          <p:nvPr/>
        </p:nvPicPr>
        <p:blipFill>
          <a:blip r:embed="rId1"/>
          <a:stretch/>
        </p:blipFill>
        <p:spPr>
          <a:xfrm>
            <a:off x="2946240" y="1836720"/>
            <a:ext cx="3251520" cy="31845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ining</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 Team Train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k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ject Team Meeting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er Review</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e-on-one with professional staff</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ki Q&amp; A</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Q: I have run across a few pamphlets where the session dates in the subtitle have a blank space where the date should be, e.g. "séance du    prairial an 7." Sometimes Martin &amp; Walter supplies a session date in its listing of the title, sometimes not. If M&amp;W has supplied a date, should we put it in brackets in the 245? And if they haven't, should we denote the blank space somehow in the 245?</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 For the 245 you can enter séance du [blank] prairial an 7. Then enter a 500 note formulated something like-- "M&amp;W date"--Session date from M&amp;W.(Alan)</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ki Q&amp;A</a:t>
            </a:r>
            <a:endParaRPr b="0" lang="en-US" sz="4400" spc="-1" strike="noStrike">
              <a:solidFill>
                <a:srgbClr val="000000"/>
              </a:solidFill>
              <a:latin typeface="Calibri"/>
            </a:endParaRPr>
          </a:p>
        </p:txBody>
      </p:sp>
      <p:sp>
        <p:nvSpPr>
          <p:cNvPr id="96" name=""/>
          <p:cNvSpPr txBox="1"/>
          <p:nvPr/>
        </p:nvSpPr>
        <p:spPr>
          <a:xfrm>
            <a:off x="457200" y="1219320"/>
            <a:ext cx="8229600" cy="490680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Q: I have a pamphlet about the salaries paid to clergy in Belgium, but covers only the portion of Belgium was under the control of the French government (départemens de la ci-devant Belgique). When entering subject headings, should I subdivide them geographically as Belgium or France?</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Subject cataloging policy is to assign the latest name of a political jurisdiction, so Belgium. (Ala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Content Placeholder 3" descr="bluecoat.jpg"/>
          <p:cNvPicPr/>
          <p:nvPr/>
        </p:nvPicPr>
        <p:blipFill>
          <a:blip r:embed="rId1"/>
          <a:stretch/>
        </p:blipFill>
        <p:spPr>
          <a:xfrm>
            <a:off x="1752480" y="103320"/>
            <a:ext cx="5029200" cy="67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2,000 Pamphlets</a:t>
            </a:r>
            <a:endParaRPr b="0" lang="en-US" sz="4400" spc="-1" strike="noStrike">
              <a:solidFill>
                <a:srgbClr val="000000"/>
              </a:solidFill>
              <a:latin typeface="Calibri"/>
            </a:endParaRPr>
          </a:p>
        </p:txBody>
      </p:sp>
      <p:pic>
        <p:nvPicPr>
          <p:cNvPr id="48" name="Content Placeholder 3" descr="frcaisle.jpg"/>
          <p:cNvPicPr/>
          <p:nvPr/>
        </p:nvPicPr>
        <p:blipFill>
          <a:blip r:embed="rId1"/>
          <a:stretch/>
        </p:blipFill>
        <p:spPr>
          <a:xfrm>
            <a:off x="2057400" y="1882800"/>
            <a:ext cx="4876920" cy="384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ject Plan</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2,000 Item-Level MARC Recor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Yea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75 Catalog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5 FTE Cataloging Assista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 Project Management*</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Item-Level MARC Records?</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dden Print Collections: published material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 institutions will own individual ite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 institutions may have already added records to OCLC/Parallel Recor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 institutions could benefit from the new records we crea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Content Placeholder 3" descr="redseal.jpg"/>
          <p:cNvPicPr/>
          <p:nvPr/>
        </p:nvPicPr>
        <p:blipFill>
          <a:blip r:embed="rId1"/>
          <a:stretch/>
        </p:blipFill>
        <p:spPr>
          <a:xfrm>
            <a:off x="1600200" y="104760"/>
            <a:ext cx="5257800" cy="6649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Content Placeholder 3" descr="existence.jpg"/>
          <p:cNvPicPr/>
          <p:nvPr/>
        </p:nvPicPr>
        <p:blipFill>
          <a:blip r:embed="rId1"/>
          <a:stretch/>
        </p:blipFill>
        <p:spPr>
          <a:xfrm>
            <a:off x="1828800" y="142920"/>
            <a:ext cx="4876920" cy="6613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Content Placeholder 3" descr="guerre.jpg"/>
          <p:cNvPicPr/>
          <p:nvPr/>
        </p:nvPicPr>
        <p:blipFill>
          <a:blip r:embed="rId1"/>
          <a:stretch/>
        </p:blipFill>
        <p:spPr>
          <a:xfrm>
            <a:off x="1981080" y="50760"/>
            <a:ext cx="4572000" cy="6728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9T12:43:13Z</dcterms:created>
  <dc:creator>Jennifer</dc:creator>
  <dc:description/>
  <dc:language>en-US</dc:language>
  <cp:lastModifiedBy>Jennifer</cp:lastModifiedBy>
  <dcterms:modified xsi:type="dcterms:W3CDTF">2010-03-30T11:55:02Z</dcterms:modified>
  <cp:revision>24</cp:revision>
  <dc:subject/>
  <dc:title>Parlez-vous francais?</dc:title>
</cp:coreProperties>
</file>