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687F9-75FF-4A3C-850B-751CD9D4A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DF174-83AA-4275-AFA2-EAE44E645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17614-4A7F-4CB4-B0FA-6292DCE23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37757-CE1E-4818-BB86-2D4F0E365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F670-E8F5-4F89-AC1F-254756887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D5CEE-0B5E-4C50-8888-08DEA4F1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3D4AF-D620-4647-9D84-BCC8DB0A0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EE5C1-410F-49AA-B7C3-8056AC647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80F83-0278-4ADA-B3D0-4A6FA1FA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22A8-F8F8-4501-93BC-F747083BF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B313-05ED-437D-96B3-66F6F4535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2874-F3E0-4FC4-A389-9D7AB528C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A4FF-A36F-4D87-B863-5FD2B86570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2" name="Content Placeholder 3" descr="frcaisle.jpg"/>
          <p:cNvPicPr/>
          <p:nvPr/>
        </p:nvPicPr>
        <p:blipFill>
          <a:blip r:embed="rId1"/>
          <a:stretch/>
        </p:blipFill>
        <p:spPr>
          <a:xfrm>
            <a:off x="2133720" y="2222640"/>
            <a:ext cx="5333760" cy="376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3" descr="convocation.jpg"/>
          <p:cNvPicPr/>
          <p:nvPr/>
        </p:nvPicPr>
        <p:blipFill>
          <a:blip r:embed="rId1"/>
          <a:stretch/>
        </p:blipFill>
        <p:spPr>
          <a:xfrm>
            <a:off x="1752480" y="311040"/>
            <a:ext cx="518184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eye.jpg"/>
          <p:cNvPicPr/>
          <p:nvPr/>
        </p:nvPicPr>
        <p:blipFill>
          <a:blip r:embed="rId1"/>
          <a:stretch/>
        </p:blipFill>
        <p:spPr>
          <a:xfrm>
            <a:off x="1143000" y="162000"/>
            <a:ext cx="6172200" cy="66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atures allow for use of cataloging templates, constant data, macro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topics/themes and names/organizations allow Cataloging Assistants to develop expertise with subject headings, authorized name for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sequential call number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arent tit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ing</a:t>
            </a:r>
            <a:endParaRPr b="0" lang="en-US" sz="4400" spc="-1" strike="noStrike">
              <a:solidFill>
                <a:srgbClr val="000000"/>
              </a:solidFill>
              <a:latin typeface="Calibri"/>
            </a:endParaRPr>
          </a:p>
        </p:txBody>
      </p:sp>
      <p:sp>
        <p:nvSpPr>
          <p:cNvPr id="61" name=""/>
          <p:cNvSpPr txBox="1"/>
          <p:nvPr/>
        </p:nvSpPr>
        <p:spPr>
          <a:xfrm>
            <a:off x="457200" y="213372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udony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istinguish between similar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at an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nsenist Collection</a:t>
            </a:r>
            <a:r>
              <a:rPr b="0" lang="en-US" sz="1800" spc="-1" strike="noStrike">
                <a:solidFill>
                  <a:srgbClr val="000000"/>
                </a:solidFill>
                <a:latin typeface="Calibri"/>
              </a:rPr>
              <a:t>: In the 1970s, the Newberry acquired a Jansenist collection from seminary libraries of the Old Catholic Church of the Netherland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ws on Censorship</a:t>
            </a:r>
            <a:r>
              <a:rPr b="0" lang="en-US" sz="1800" spc="-1" strike="noStrike">
                <a:solidFill>
                  <a:srgbClr val="000000"/>
                </a:solidFill>
                <a:latin typeface="Calibri"/>
              </a:rPr>
              <a:t>:  The John M. Wing Collection contains a collection of French laws concerning regulation of the press from 1513-1829 (around 1,200 items separately listed in the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French Political Pamphlets</a:t>
            </a:r>
            <a:r>
              <a:rPr b="0" lang="en-US" sz="1800" spc="-1" strike="noStrike">
                <a:solidFill>
                  <a:srgbClr val="000000"/>
                </a:solidFill>
                <a:latin typeface="Calibri"/>
              </a:rPr>
              <a:t>: The Newberry has about 3,000 French political pamphlets published from 1560 to 1653.  Nearly all of these pamphlets are individually cataloged in the Newberry’s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Revolution Collection</a:t>
            </a:r>
            <a:r>
              <a:rPr b="0" lang="en-US" sz="1800" spc="-1" strike="noStrike">
                <a:solidFill>
                  <a:srgbClr val="000000"/>
                </a:solidFill>
                <a:latin typeface="Calibri"/>
              </a:rPr>
              <a:t>: 11,OOO anonymously authored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British and American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oked at University Models using Subject Specialists/Students</a:t>
            </a:r>
            <a:endParaRPr b="0" lang="en-US" sz="4000" spc="-1" strike="noStrike">
              <a:solidFill>
                <a:srgbClr val="000000"/>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berry is not part of a Univers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e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history of outreach and service to schol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er for Renaissance Studies</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Council members (about 60 people, representing 50 different universities)</a:t>
            </a:r>
            <a:br>
              <a:rPr sz="3200"/>
            </a:b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of scholars who either teach at or study at French departments at the 50 Renaissance Center consortium institutions (mostly U.S., but a few in Canada and the U.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Connect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nnouncement to 4 local professors from the C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ofessor of French literature at University of  Chicago gave the posting to h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Descrip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TL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Project Cataloging Assistan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MEN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600" spc="-1" strike="noStrike">
                <a:solidFill>
                  <a:srgbClr val="000000"/>
                </a:solidFill>
                <a:latin typeface="Calibri"/>
              </a:rPr>
              <a:t>Collection</a:t>
            </a:r>
            <a:r>
              <a:rPr b="0" lang="en-US" sz="1400" spc="-1" strike="noStrike">
                <a:solidFill>
                  <a:srgbClr val="000000"/>
                </a:solidFill>
                <a:latin typeface="Calibri"/>
              </a:rPr>
              <a:t> Servic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MMARY:</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ject Cataloging Assistants will edit and create item-level MARC records for 22,000 French pamphlets, the bulk of which were published in France between 1780 and 1810. These positions are part of a Council on Library and Information Resources (CLIR) Cataloging Hidden Special Collections and Archives grant. With generous funding from The Andrew W. Mellon Foundation, CLIR administers this national program to identify and catalog hidden special collections and archiv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to the Cataloging Projects Manager, the Project Catalog Assistants will work closely with a professional Cataloging Librarian to produce records that meet local and national library cataloging standards. Full-time Project Cataloging Assistants will be expected to produce approximately 145 records per month.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wberry Library is an independent research library concentrating in the humanities, with an active cultural and educational presence in Chicago.   Free and open to the public, the Newberry is home to a world-class collection of books, manuscripts, maps, music, and other printed materials related to the history and culture of Western Europe and the Americas. The collections span many centuries and feature items such as illuminated medieval manuscripts, rare early maps, rich genealogical resources, and the personal papers of Midwest authors. </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PONSI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complex copy cataloging and some original cataloging for French pamphl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OCLC Connexion and the Newberry catalog (Voyager) for bibliographic and authority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and edit records in OCLC Connexion and the Newberry catalog (Voyager) applying current cataloging and description resources to meet local practices, consortium requirements and national standards (AACR2, LC Classification, LC Subject headings, LC Authorities, MARC2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e in department and grant team meet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 close attention to quality and quantity of cataloging outp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ly manage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4" name="Content Placeholder 3" descr="bastille.jpg"/>
          <p:cNvPicPr/>
          <p:nvPr/>
        </p:nvPicPr>
        <p:blipFill>
          <a:blip r:embed="rId1"/>
          <a:stretch/>
        </p:blipFill>
        <p:spPr>
          <a:xfrm>
            <a:off x="2433600" y="1719360"/>
            <a:ext cx="427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04560"/>
            <a:ext cx="8229600" cy="60958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FICATION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nch language fluency (reading comprehension skills will be tested.)</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ence using library catalog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 proficiency in Internet searching and in the Microsoft Windows environment, including, but not limited to, Microsoft Word, Microsoft Excel and electronic mail.</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work independently with close attention to detail, accuracy and production expectations.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follow instructions and organize time and work on multiple projec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maintain and establish effective work relationship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communicate effectively in oral and written form.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uate M.A. or Ph.D. candidate; knowledge of French history or </a:t>
            </a:r>
            <a:br>
              <a:rPr sz="2000"/>
            </a:br>
            <a:r>
              <a:rPr b="0" lang="en-US" sz="2000" spc="-1" strike="noStrike">
                <a:solidFill>
                  <a:srgbClr val="000000"/>
                </a:solidFill>
                <a:latin typeface="Calibri"/>
              </a:rPr>
              <a:t>literatu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rse work in a Library Science program and/or library technical services department experience using OCLC and a cataloging module of an integrated library system.</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of AACR2, LC Classification, LC Subject headings, LC Authorities, MARC21. </a:t>
            </a:r>
            <a:endParaRPr b="0" lang="en-US" sz="20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s</a:t>
            </a:r>
            <a:endParaRPr b="0" lang="en-US" sz="4400" spc="-1" strike="noStrike">
              <a:solidFill>
                <a:srgbClr val="000000"/>
              </a:solidFill>
              <a:latin typeface="Calibri"/>
            </a:endParaRPr>
          </a:p>
        </p:txBody>
      </p:sp>
      <p:sp>
        <p:nvSpPr>
          <p:cNvPr id="75" name=""/>
          <p:cNvSpPr txBox="1"/>
          <p:nvPr/>
        </p:nvSpPr>
        <p:spPr>
          <a:xfrm>
            <a:off x="457200" y="2438280"/>
            <a:ext cx="8229600" cy="2743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Language Skill T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Inter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Discussion of a MARC Record for the Test Pamphl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T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text.jpg"/>
          <p:cNvPicPr/>
          <p:nvPr/>
        </p:nvPicPr>
        <p:blipFill>
          <a:blip r:embed="rId1"/>
          <a:stretch/>
        </p:blipFill>
        <p:spPr>
          <a:xfrm>
            <a:off x="2362320" y="111240"/>
            <a:ext cx="3886200" cy="659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ff</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entry-level librarian with no prior cataloging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graduate with 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French Literature PhD.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MILS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ull-time Cataloger (E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urs from experienced Project Catalog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0-Day Evaluation</a:t>
            </a:r>
            <a:endParaRPr b="0" lang="en-US" sz="4000" spc="-1" strike="noStrike">
              <a:solidFill>
                <a:srgbClr val="000000"/>
              </a:solidFill>
              <a:latin typeface="Calibri"/>
            </a:endParaRPr>
          </a:p>
        </p:txBody>
      </p:sp>
      <p:sp>
        <p:nvSpPr>
          <p:cNvPr id="80" name=""/>
          <p:cNvSpPr txBox="1"/>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le the average productivity expectations (145 per-month/full-time and 83 per-month/part-time) will not be attained in the review period, at the end of 90 days Project Cataloging Assistants will be expected to produce complete MARC records and demonstrate progress toward production goals and improved accuracy.</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alog Assistants will demonstrate knowledge and ability of the following:</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Match and Select Recor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pamphlets in Connexion using a variety of strategi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if a record is an appropriate match for the pamphlet or if new record should be created</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a “best match” when multiple matching records are availabl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when the Newberry already has holdings attached to a record in Connex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non-English language records; derive parallel records</a:t>
            </a:r>
            <a:endParaRPr b="0" lang="en-US" sz="18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ate, Edit and Derive MARC Records</a:t>
            </a:r>
            <a:r>
              <a:rPr b="1" i="1" lang="en-US" sz="1800" spc="-1" strike="noStrike">
                <a:solidFill>
                  <a:srgbClr val="000000"/>
                </a:solidFill>
                <a:latin typeface="Calibri"/>
              </a:rPr>
              <a:t> </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various sources of information within a pamphlet; select the best source of inform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fixed fields, codes most often used in these fields, and recognize when a less common code i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ppropriate indicators, subfields, punctuation, and capitaliz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the key concepts </a:t>
            </a:r>
            <a:r>
              <a:rPr b="0" i="1" lang="en-US" sz="1800" spc="-1" strike="noStrike">
                <a:solidFill>
                  <a:srgbClr val="000000"/>
                </a:solidFill>
                <a:latin typeface="Calibri"/>
              </a:rPr>
              <a:t>Main Entry</a:t>
            </a:r>
            <a:r>
              <a:rPr b="0" lang="en-US" sz="1800" spc="-1" strike="noStrike">
                <a:solidFill>
                  <a:srgbClr val="000000"/>
                </a:solidFill>
                <a:latin typeface="Calibri"/>
              </a:rPr>
              <a:t> and </a:t>
            </a:r>
            <a:r>
              <a:rPr b="0" i="1" lang="en-US" sz="1800" spc="-1" strike="noStrike">
                <a:solidFill>
                  <a:srgbClr val="000000"/>
                </a:solidFill>
                <a:latin typeface="Calibri"/>
              </a:rPr>
              <a:t>Added Entry;</a:t>
            </a:r>
            <a:r>
              <a:rPr b="0" lang="en-US" sz="1800" spc="-1" strike="noStrike">
                <a:solidFill>
                  <a:srgbClr val="000000"/>
                </a:solidFill>
                <a:latin typeface="Calibri"/>
              </a:rPr>
              <a:t> determine if an individual/organization has an authorship ro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nd include appropriate forms of frequently encountered names/organizations/subjects in 1xx /7xx fields and 6xx fiel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names/organization/subjects that are not frequently encountered and work with Catalog Librarian to add 1xx/7xx and 6xx fields for them</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 clear and concise notes a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Martin &amp; Walter citation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e parallel recor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search and retrieve records to a Save Fi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nstant data</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xt Strings set up in Connex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headings</a:t>
            </a:r>
            <a:endParaRPr b="0" lang="en-US" sz="1800" spc="-1" strike="noStrike">
              <a:solidFill>
                <a:srgbClr val="000000"/>
              </a:solidFill>
              <a:latin typeface="Calibri"/>
            </a:endParaRPr>
          </a:p>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nguage Competenc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French pamphlets to determine key names, organizations and top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t French Republican Calendar dates to standard d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Time Management/Teamwork Ski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e effectively with Project Cataloger and other Project Cataloging Assistan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e in CLIR project training and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complete above task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057400"/>
            <a:ext cx="6400800" cy="3581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1. Identify What is Important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What does “rapid cataloging” mean for our institution and for this collec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Bibliographic Descrip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ubject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ailor your training to the strengths and experience of the Cataloging Assista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backgroun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History/Liter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dentify/Gather Training Too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conver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bliographies – printers, biographical information, encycloped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aloging training tools put together by other libra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456840"/>
            <a:ext cx="64008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nding and Training Subject Specialists to Catalog 18</a:t>
            </a:r>
            <a:r>
              <a:rPr b="0" lang="en-US" sz="3200" spc="-1" strike="noStrike" baseline="30000">
                <a:solidFill>
                  <a:srgbClr val="898989"/>
                </a:solidFill>
                <a:latin typeface="Calibri"/>
              </a:rPr>
              <a:t>th</a:t>
            </a:r>
            <a:r>
              <a:rPr b="0" lang="en-US" sz="3200" spc="-1" strike="noStrike">
                <a:solidFill>
                  <a:srgbClr val="898989"/>
                </a:solidFill>
                <a:latin typeface="Calibri"/>
              </a:rPr>
              <a:t> century French Pamphle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ennifer Thom &amp; Eric Nygre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berry Librar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laloi.jpg"/>
          <p:cNvPicPr/>
          <p:nvPr/>
        </p:nvPicPr>
        <p:blipFill>
          <a:blip r:embed="rId1"/>
          <a:stretch/>
        </p:blipFill>
        <p:spPr>
          <a:xfrm>
            <a:off x="2946240" y="1836720"/>
            <a:ext cx="3251520" cy="318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eam Trai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Team Meetin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Revie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on-one with professional staf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 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 I have run across a few pamphlets where the session dates in the subtitle have a blank space where the date should be, e.g. "séance du    prairial an 7." Sometimes Martin &amp; Walter supplies a session date in its listing of the title, sometimes not. If M&amp;W has supplied a date, should we put it in brackets in the 245? And if they haven't, should we denote the blank space somehow in the 24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For the 245 you can enter séance du [blank] prairial an 7. Then enter a 500 note formulated something like-- "M&amp;W date"--Session date from M&amp;W.(Ala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A</a:t>
            </a:r>
            <a:endParaRPr b="0" lang="en-US" sz="4400" spc="-1" strike="noStrike">
              <a:solidFill>
                <a:srgbClr val="000000"/>
              </a:solidFill>
              <a:latin typeface="Calibri"/>
            </a:endParaRPr>
          </a:p>
        </p:txBody>
      </p:sp>
      <p:sp>
        <p:nvSpPr>
          <p:cNvPr id="9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 I have a pamphlet about the salaries paid to clergy in Belgium, but covers only the portion of Belgium was under the control of the French government (départemens de la ci-devant Belgique). When entering subject headings, should I subdivide them geographically as Belgium or Fran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ubject cataloging policy is to assign the latest name of a political jurisdiction, so Belgium. (Ala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bluecoat.jpg"/>
          <p:cNvPicPr/>
          <p:nvPr/>
        </p:nvPicPr>
        <p:blipFill>
          <a:blip r:embed="rId1"/>
          <a:stretch/>
        </p:blipFill>
        <p:spPr>
          <a:xfrm>
            <a:off x="1752480" y="103320"/>
            <a:ext cx="5029200" cy="67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000 Pamphlets</a:t>
            </a:r>
            <a:endParaRPr b="0" lang="en-US" sz="4400" spc="-1" strike="noStrike">
              <a:solidFill>
                <a:srgbClr val="000000"/>
              </a:solidFill>
              <a:latin typeface="Calibri"/>
            </a:endParaRPr>
          </a:p>
        </p:txBody>
      </p:sp>
      <p:pic>
        <p:nvPicPr>
          <p:cNvPr id="48" name="Content Placeholder 3" descr="frcaisle.jpg"/>
          <p:cNvPicPr/>
          <p:nvPr/>
        </p:nvPicPr>
        <p:blipFill>
          <a:blip r:embed="rId1"/>
          <a:stretch/>
        </p:blipFill>
        <p:spPr>
          <a:xfrm>
            <a:off x="2057400" y="188280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la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000 Item-Level MARC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Catalo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 FTE Cataloging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roject Management*</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Print Collections: published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will own individual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may have already added records to OCLC/Parallel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could benefit from the new records we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redseal.jpg"/>
          <p:cNvPicPr/>
          <p:nvPr/>
        </p:nvPicPr>
        <p:blipFill>
          <a:blip r:embed="rId1"/>
          <a:stretch/>
        </p:blipFill>
        <p:spPr>
          <a:xfrm>
            <a:off x="1600200" y="104760"/>
            <a:ext cx="5257800" cy="66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3" descr="existence.jpg"/>
          <p:cNvPicPr/>
          <p:nvPr/>
        </p:nvPicPr>
        <p:blipFill>
          <a:blip r:embed="rId1"/>
          <a:stretch/>
        </p:blipFill>
        <p:spPr>
          <a:xfrm>
            <a:off x="1828800" y="142920"/>
            <a:ext cx="4876920" cy="661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guerre.jpg"/>
          <p:cNvPicPr/>
          <p:nvPr/>
        </p:nvPicPr>
        <p:blipFill>
          <a:blip r:embed="rId1"/>
          <a:stretch/>
        </p:blipFill>
        <p:spPr>
          <a:xfrm>
            <a:off x="1981080" y="50760"/>
            <a:ext cx="4572000" cy="672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3:13Z</dcterms:created>
  <dc:creator>Jennifer</dc:creator>
  <dc:description/>
  <dc:language>en-US</dc:language>
  <cp:lastModifiedBy>Jennifer</cp:lastModifiedBy>
  <dcterms:modified xsi:type="dcterms:W3CDTF">2010-03-30T11:55:02Z</dcterms:modified>
  <cp:revision>24</cp:revision>
  <dc:subject/>
  <dc:title>Parlez-vous francais?</dc:title>
</cp:coreProperties>
</file>