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68894-878A-41A7-AC99-977B94255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BB0B-0172-4EEC-ADBC-E810AD08E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660EA-CEA0-4530-9ED9-575650364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2254E-5C24-407F-8DE9-64757C395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7424-91E1-455B-85E4-42021284B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F27F-2E31-4F41-9D71-E083E4B95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9810-67A6-434E-870C-076DC38BF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DFA2F-F65B-4773-A5A1-A1CE7713B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3ED6-DFAA-4BD2-9305-C605C4DA30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AD86-E5AF-4403-8885-A45FFF0AE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0DB4-1C98-4A63-8E2C-1E44BD3CE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6CCD-5678-4609-96BA-2D481D695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5120" y="0"/>
            <a:ext cx="8408880" cy="134136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22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220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spcBef>
                <a:spcPts val="220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244520" indent="-203040">
              <a:spcBef>
                <a:spcPts val="220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5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6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32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3131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41E1-2788-436A-BABD-1B2EA4D689FC}" type="slidenum">
              <a:rPr b="0" lang="en-US" sz="1400" spc="-1" strike="noStrike">
                <a:solidFill>
                  <a:srgbClr val="13131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1268280"/>
            <a:ext cx="7524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7480" y="1268280"/>
            <a:ext cx="846360" cy="165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1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291960" algn="ctr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571680" algn="ctr"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041480" algn="ctr">
              <a:spcBef>
                <a:spcPts val="55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5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6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1313"/>
                </a:solidFill>
                <a:latin typeface="Arial"/>
              </a:rPr>
              <a:t>Interoperable Digitised Content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“</a:t>
            </a: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Discover, search, extract, link,</a:t>
            </a:r>
            <a:br>
              <a:rPr sz="2200"/>
            </a:b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associate, and view digitised content”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Les Carr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pportuniti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87280" indent="-28584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Libraries may be able to adapt the BBC approach in mixing in-house and external resourc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There is interest in exploring the use of EAD and RDF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From the brief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Content from separate libraries is accessed (eg Newspapers published in different countries on the same date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Content to be found, independent of location, that refers to the same event from multiple content sources (e.g. start of first world war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Images to be located that are taken of the same object/place over time from different sourc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Discover references people, names and places in documents held by separate librari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A306-2EC4-41A2-A96F-902FDBAEE5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opics covered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brief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Observ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halleng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On EAD (encoded archival description)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Opportuniti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3E304-9B9F-4406-9124-B76BAAB618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he Brief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Background: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There have been many major digitisation projects producing millions of  image fil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Often hosted only on an organisation’s web site with a customised user interface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Libraries would like to provide broader access, for example, by: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Content from separate libraries to be compared:</a:t>
            </a:r>
            <a:br>
              <a:rPr sz="1800"/>
            </a:b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eg Newspapers published in different countries on the same date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Content to be found, independent of location, that refers to the same event from multiple content sources (e.g. start of first world war)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Images to be located that are taken of the same object/place over time from different sourc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Discover references people, names and places in documents held by separate librari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We would like to explore the possibility of using Linked Data technologies to facilitate these use cases.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1B1F-2A1A-421C-8179-0DBA0D95B5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bservation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ach digitisation project has tended to end up with its own silo.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BBC is transforming and at least partly becoming a library – there is significant web access to previously broadcast conten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n organisation needs to adopt a form of </a:t>
            </a:r>
            <a:r>
              <a:rPr b="0" lang="en-US" sz="2000" spc="-1" strike="noStrike" u="sng">
                <a:solidFill>
                  <a:srgbClr val="131313"/>
                </a:solidFill>
                <a:uFillTx/>
                <a:latin typeface="Arial"/>
              </a:rPr>
              <a:t>persistent identifier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for each asset (as per 1</a:t>
            </a:r>
            <a:r>
              <a:rPr b="0" lang="en-US" sz="2000" spc="-1" strike="noStrike" baseline="30000">
                <a:solidFill>
                  <a:srgbClr val="131313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principle) &amp; then publish (2</a:t>
            </a:r>
            <a:r>
              <a:rPr b="0" lang="en-US" sz="2000" spc="-1" strike="noStrike" baseline="30000">
                <a:solidFill>
                  <a:srgbClr val="131313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principle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 German funding agency mandates that there are persistent identifiers for digitised imag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ts not clear what are the benefits of RDF, but it seems to be a fast and easy way of publishing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t is good practice to separate (or distinguish between) content and the way to present it – RDF can help thi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Helpful to have availability information about the item in RDF (e.g. whether it is on line or not)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Publish in JSON as well as RDF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D82C-ABE0-474E-AB69-E7527D0E48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halleng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87280" indent="-2858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Often a single organisation may have multiple separate silos of digitised conten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They may be inconsistencies in many ways, such as the way they are described, searched, navigated, and the rights may diffe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Most organisations have an internal challenge to link their existing silos - in addition to the obvious external challenge in linking with other organisa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Rights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Out of copyright does not mean there are no restric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Metadata rights are not necessarily the same as content righ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Different organisations publish in different ways or mod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Deals with rights owners may be “time limited”, but once info is published into public domain its not easy to retract i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4120" indent="-27504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How do we record rights in RDF?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A690-6A0D-4F3A-BE62-862AF4C0EC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halleng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organisations have a wide range of types of digitised content: such as letters, sheet music, pictures, documents, newspapers, books, pamphlets and also born digital cont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he British Museum </a:t>
            </a:r>
            <a:r>
              <a:rPr b="0" i="1" lang="en-GB" sz="2200" spc="-1" strike="noStrike">
                <a:solidFill>
                  <a:srgbClr val="131313"/>
                </a:solidFill>
                <a:latin typeface="Arial"/>
              </a:rPr>
              <a:t>(&amp; others)</a:t>
            </a: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 measures contact time on its web site – if it publishes data then other sites may grab the user and so their own site traffic may reduce significantl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hat are measures of success for a library if it exposes its data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hat is the future role for a library in the “supply chain”? As illustration, users may no longer go to a Mapping Agency so how does it demonstrate it provides a valued servic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ow do you demonstrate to funders that you are successful in a world of linked data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D32C-1E7B-4D6E-A3CE-4DAD34D956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halleng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If we convert several existing silos into RDF how might these be combined to produce a coherent user experience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ow might we create an RDF representation of METS? Typically each METS schema would depend on a model of the content that is being described, and these are differen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digitisation projects are externally commercially funded and “publication” may compete with the funder’s business mod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B567B-3639-43EF-BB68-0E434DFB26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n EAD (encoded archival description)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AD describes in a rich manner the content in an archiv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Can RDF cope with the levels, relationships and rich structure in EAD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Can we create a “one fits all” model of EAD in RDF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organisations share DC even though they retain MARC, so maybe some RDF might be shared about an EAD archive while a full EAD is retained.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ome organisations have many (e.g, ~3000) rich EAD silos – how might these be “cross walked”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ow do we share large scale resources in archives &amp; manuscripts?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-28584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(Lets not forget TEI - text encoding is often applied to manuscripts … )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8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B7CA-3569-4BBB-868E-F5A38E50AF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pportunities …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Start with some simple collaboration …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While there may be distinct differences by organisation or area, ontologies can be adopted in several common areas: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Perso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Time and time fram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Location and changing names over tim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vent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Authority control can form a sound basis for cross referencing across collections and organisations – we could collaborate on shared published authority fil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stablish a set of common content models, such as for newspapers and other content typ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BBE5-334E-429D-BEF9-5D64FFA157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0:18:53Z</dcterms:created>
  <dc:creator>SeMartin</dc:creator>
  <dc:description/>
  <cp:keywords/>
  <dc:language>en-US</dc:language>
  <cp:lastModifiedBy>SeMartin</cp:lastModifiedBy>
  <dcterms:modified xsi:type="dcterms:W3CDTF">2010-05-28T07:21:21Z</dcterms:modified>
  <cp:revision>6</cp:revision>
  <dc:subject/>
  <dc:title>TITLE</dc:title>
</cp:coreProperties>
</file>