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61E25-FA8C-4F4C-A17E-4F57032C1D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4CD47-36CB-46DE-B587-E2489DB5E7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D2191-6CA1-4EE1-94D8-79673C003C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92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92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D6544-C9C4-471E-A9CB-0480C2870C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3826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F8B4F-96E2-4E29-A953-FD4C215536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92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476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92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476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91A30-8565-4EF8-9F1E-458D556D1F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7245A-C230-48C3-B54D-2D5BFCBA9F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D83F1-C837-482E-8FA1-3699AF9599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3826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2F1E1-01A7-464C-9E68-1DB879A2A9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9419F-F6B2-4A04-8D61-F65850060F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828A5-6250-47CB-8A7D-C3D0F91012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D706D-256F-4FE8-A28E-F3A99E145A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35120" y="0"/>
            <a:ext cx="8408880" cy="1341360"/>
          </a:xfrm>
          <a:prstGeom prst="rect">
            <a:avLst/>
          </a:prstGeom>
          <a:solidFill>
            <a:srgbClr val="9cd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220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220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851040" indent="-279360">
              <a:spcBef>
                <a:spcPts val="220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4" marL="1244520" indent="-203040">
              <a:spcBef>
                <a:spcPts val="2200"/>
              </a:spcBef>
              <a:buClr>
                <a:srgbClr val="c6172c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5" marL="1244520" indent="-203040">
              <a:spcBef>
                <a:spcPts val="220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6" marL="1244520" indent="-203040">
              <a:spcBef>
                <a:spcPts val="220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73272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3131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E04A-DE2A-4BD4-AD4D-FDB1B9496D9B}" type="slidenum">
              <a:rPr b="0" lang="en-US" sz="1400" spc="-1" strike="noStrike">
                <a:solidFill>
                  <a:srgbClr val="13131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" cy="134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cd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19280" y="1268280"/>
            <a:ext cx="7524720" cy="16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1701720"/>
            <a:ext cx="6634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7480" y="1268280"/>
            <a:ext cx="846360" cy="1654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144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291960" algn="ctr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571680" algn="ctr">
              <a:spcBef>
                <a:spcPts val="55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4" marL="1041480" algn="ctr">
              <a:spcBef>
                <a:spcPts val="550"/>
              </a:spcBef>
              <a:buClr>
                <a:srgbClr val="c6172c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Fif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  <a:p>
            <a:pPr lvl="5" marL="1041480">
              <a:spcBef>
                <a:spcPts val="55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Six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  <a:p>
            <a:pPr lvl="6" marL="1041480">
              <a:spcBef>
                <a:spcPts val="55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Seven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0560" y="1701720"/>
            <a:ext cx="6634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1313"/>
                </a:solidFill>
                <a:latin typeface="Arial"/>
              </a:rPr>
              <a:t>Interoperable Digitised Content</a:t>
            </a:r>
            <a:endParaRPr b="1" lang="en-US" sz="28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0560" y="3429000"/>
            <a:ext cx="6634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131313"/>
                </a:solidFill>
                <a:latin typeface="Arial"/>
              </a:rPr>
              <a:t>“</a:t>
            </a:r>
            <a:r>
              <a:rPr b="0" i="1" lang="en-GB" sz="2200" spc="-1" strike="noStrike">
                <a:solidFill>
                  <a:srgbClr val="131313"/>
                </a:solidFill>
                <a:latin typeface="Arial"/>
              </a:rPr>
              <a:t>Discover, search, extract, link,</a:t>
            </a:r>
            <a:br>
              <a:rPr sz="2200"/>
            </a:br>
            <a:r>
              <a:rPr b="0" i="1" lang="en-GB" sz="2200" spc="-1" strike="noStrike">
                <a:solidFill>
                  <a:srgbClr val="131313"/>
                </a:solidFill>
                <a:latin typeface="Arial"/>
              </a:rPr>
              <a:t>associate, and view digitised content”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Les Carr 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pportunities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287280" indent="-28584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Libraries may be able to adapt the BBC approach in mixing in-house and external resourc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There is interest in exploring the use of EAD and RDF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From the brief: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Content from separate libraries is accessed (eg Newspapers published in different countries on the same date)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Content to be found, independent of location, that refers to the same event from multiple content sources (e.g. start of first world war)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Images to be located that are taken of the same object/place over time from different sourc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Discover references people, names and places in documents held by separate librari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CE0AE-5E16-4EBD-A2B8-1021E328BC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opics covered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e brief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Observation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halleng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On EAD (encoded archival description)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Opportuniti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D47EE-174E-437C-BE4B-74F1289BBC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he Brief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7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Background: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There have been many major digitisation projects producing millions of  image file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Often hosted only on an organisation’s web site with a customised user interface 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Libraries would like to provide broader access, for example, by: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Content from separate libraries to be compared:</a:t>
            </a:r>
            <a:br>
              <a:rPr sz="1800"/>
            </a:b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eg Newspapers published in different countries on the same date 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Content to be found, independent of location, that refers to the same event from multiple content sources (e.g. start of first world war)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Images to be located that are taken of the same object/place over time from different source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Discover references people, names and places in documents held by separate librarie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We would like to explore the possibility of using Linked Data technologies to facilitate these use cases. 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047AE-4F25-4F3B-ADE8-6A96876ED0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bservations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Each digitisation project has tended to end up with its own silo.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BBC is transforming and at least partly becoming a library – there is significant web access to previously broadcast content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An organisation needs to adopt a form of </a:t>
            </a:r>
            <a:r>
              <a:rPr b="0" lang="en-US" sz="2000" spc="-1" strike="noStrike" u="sng">
                <a:solidFill>
                  <a:srgbClr val="131313"/>
                </a:solidFill>
                <a:uFillTx/>
                <a:latin typeface="Arial"/>
              </a:rPr>
              <a:t>persistent identifier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 for each asset (as per 1</a:t>
            </a:r>
            <a:r>
              <a:rPr b="0" lang="en-US" sz="2000" spc="-1" strike="noStrike" baseline="30000">
                <a:solidFill>
                  <a:srgbClr val="131313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 principle) &amp; then publish (2</a:t>
            </a:r>
            <a:r>
              <a:rPr b="0" lang="en-US" sz="2000" spc="-1" strike="noStrike" baseline="30000">
                <a:solidFill>
                  <a:srgbClr val="131313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 principle)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A German funding agency mandates that there are persistent identifiers for digitised imag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Its not clear what are the benefits of RDF, but it seems to be a fast and easy way of publishing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It is good practice to separate (or distinguish between) content and the way to present it – RDF can help thi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Helpful to have availability information about the item in RDF (e.g. whether it is on line or not)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Publish in JSON as well as RDF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5B713-FD47-4BF2-9DD6-946DB5B113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hallenges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7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287280" indent="-2858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Often a single organisation may have multiple separate silos of digitised content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They may be inconsistencies in many ways, such as the way they are described, searched, navigated, and the rights may differ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Most organisations have an internal challenge to link their existing silos - in addition to the obvious external challenge in linking with other organisation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Rights: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Out of copyright does not mean there are no restriction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Metadata rights are not necessarily the same as content right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Different organisations publish in different ways or mod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Deals with rights owners may be “time limited”, but once info is published into public domain its not easy to retract it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How do we record rights in RDF?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002AD-5E93-4BBF-981A-83F0E18C5B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hallenges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Some organisations have a wide range of types of digitised content: such as letters, sheet music, pictures, documents, newspapers, books, pamphlets and also born digital conten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e British Museum </a:t>
            </a:r>
            <a:r>
              <a:rPr b="0" i="1" lang="en-GB" sz="2200" spc="-1" strike="noStrike">
                <a:solidFill>
                  <a:srgbClr val="131313"/>
                </a:solidFill>
                <a:latin typeface="Arial"/>
              </a:rPr>
              <a:t>(&amp; others)</a:t>
            </a: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 measures contact time on its web site – if it publishes data then other sites may grab the user and so their own site traffic may reduce significantly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What are measures of success for a library if it exposes its data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What is the future role for a library in the “supply chain”? As illustration, users may no longer go to a Mapping Agency so how does it demonstrate it provides a valued servic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How do you demonstrate to funders that you are successful in a world of linked data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F09D5-BDC7-46C9-BF23-F0A1B7B677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hallenges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f we convert several existing silos into RDF how might these be combined to produce a coherent user experience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How might we create an RDF representation of METS? Typically each METS schema would depend on a model of the content that is being described, and these are differen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Some digitisation projects are externally commercially funded and “publication” may compete with the funder’s business mod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BA28D-9799-49B0-A215-0291F05E81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n EAD (encoded archival description)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EAD describes in a rich manner the content in an archiv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Can RDF cope with the levels, relationships and rich structure in EAD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Can we create a “one fits all” model of EAD in RDF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Some organisations share DC even though they retain MARC, so maybe some RDF might be shared about an EAD archive while a full EAD is retained.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Some organisations have many (e.g, ~3000) rich EAD silos – how might these be “cross walked”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How do we share large scale resources in archives &amp; manuscripts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(Lets not forget TEI - text encoding is often applied to manuscripts … )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D3476-7233-4304-A07F-9AA9F9298F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pportunities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Start with some simple collaboration …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While there may be distinct differences by organisation or area, ontologies can be adopted in several common areas: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Person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ime and time fram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Location and changing names over tim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Event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uthority control can form a sound basis for cross referencing across collections and organisations – we could collaborate on shared published authority fil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Establish a set of common content models, such as for newspapers and other content typ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BD0CD-7F01-4441-889C-FCE9C425EF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20:18:53Z</dcterms:created>
  <dc:creator>SeMartin</dc:creator>
  <dc:description/>
  <cp:keywords/>
  <dc:language>en-US</dc:language>
  <cp:lastModifiedBy>SeMartin</cp:lastModifiedBy>
  <dcterms:modified xsi:type="dcterms:W3CDTF">2010-05-28T07:21:21Z</dcterms:modified>
  <cp:revision>6</cp:revision>
  <dc:subject/>
  <dc:title>TITLE</dc:title>
</cp:coreProperties>
</file>