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6738-1EA0-47A8-BAD2-059159D60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50FB-8A9E-43FA-A33F-2B577008C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F9BE-4233-4D4E-B001-DBF66EB52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2BC0-5748-44B0-87DA-47924847D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29A7-F976-4499-B150-F08BFE95E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FABF-ABC3-4DA9-B654-C938E3531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E617-AAEA-470C-A5FB-D7B2C74F5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CBDD-EEA8-4DCF-9134-E07A27D29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C027-FE8E-487F-BA8E-4E8104029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9B25-EE0C-4496-BCC2-0BB4F6AEC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1B18-F12D-4487-9262-1CFED45FB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5001-B655-48A5-96E6-1BEA255CA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07FB-F297-456E-B284-F7023A0D7B51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Interoperable Digitised Conten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Discover, search, extract, link,</a:t>
            </a:r>
            <a:br>
              <a:rPr sz="2200"/>
            </a:b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associate, and view digitised content”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ibraries may be able to adapt the BBC approach in mixing in-house and external re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re is interest in exploring the use of EAD and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rom the brief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from separate libraries is accessed (eg Newspapers published in different countries on the same dat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78C0-F8E3-4E65-9D4D-E3B0A39A24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opics covered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e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A5F7-5623-47E2-BC0D-364958F307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ef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There have been many major digitisation projects producing millions of  image fil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Often hosted only on an organisation’s web site with a customised user interfac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Libraries would like to provide broader access, for example, by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from separate libraries to be compared: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eg Newspapers published in different countries on the same dat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We would like to explore the possibility of using Linked Data technologies to facilitate these use cases.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A5C7-C949-4F93-A2FA-2B93386F52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ach digitisation project has tended to end up with its own silo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BC is transforming and at least partly becoming a library – there is significant web access to previously broadcast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organisation needs to adopt a form of </a:t>
            </a:r>
            <a:r>
              <a:rPr b="0" lang="en-US" sz="2000" spc="-1" strike="noStrike" u="sng">
                <a:solidFill>
                  <a:srgbClr val="131313"/>
                </a:solidFill>
                <a:uFillTx/>
                <a:latin typeface="Arial"/>
              </a:rPr>
              <a:t>persistent identifier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for each asset (as per 1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 &amp; then publish (2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German funding agency mandates that there are persistent identifiers for digitised ima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s not clear what are the benefits of RDF, but it seems to be a fast and easy way of publish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 is good practice to separate (or distinguish between) content and the way to present it – RDF can help thi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elpful to have availability information about the item in RDF (e.g. whether it is on line or not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 in JSON as well as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8E9F-A629-47C7-8214-D5D407B653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ften a single organisation may have multiple separate silos of digitise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y may be inconsistencies in many ways, such as the way they are described, searched, navigated, and the rights may diff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ost organisations have an internal challenge to link their existing silos - in addition to the obvious external challenge in linking with other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ights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 of copyright does not mean there are no restri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adata rights are not necessarily the same as content righ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fferent organisations publish in different ways or mod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eals with rights owners may be “time limited”, but once info is published into public domain its not easy to retract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ow do we record rights in RDF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34F7-3D0D-4FED-9DAF-411EBC8A8D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a wide range of types of digitised content: such as letters, sheet music, pictures, documents, newspapers, books, pamphlets and also born digital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British Museum 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(&amp; others)</a:t>
            </a: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 measures contact time on its web site – if it publishes data then other sites may grab the user and so their own site traffic may reduce significantl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are measures of success for a library if it exposes its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is the future role for a library in the “supply chain”? As illustration, users may no longer go to a Mapping Agency so how does it demonstrate it provides a valued servi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you demonstrate to funders that you are successful in a world of linked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E3E6-78F9-4DEE-A772-B905DC821E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onvert several existing silos into RDF how might these be combined to produce a coherent user experienc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might we create an RDF representation of METS? Typically each METS schema would depend on a model of the content that is being described, and these are differ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digitisation projects are externally commercially funded and “publication” may compete with the funder’s business mod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933C-129C-4D30-9811-7F2698A33F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AD describes in a rich manner the content in an arch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RDF cope with the levels, relationships and rich structure in EAD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we create a “one fits all” model of EAD in RDF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share DC even though they retain MARC, so maybe some RDF might be shared about an EAD archive while a full EAD is retained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many (e.g, ~3000) rich EAD silos – how might these be “cross walked”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we share large scale resources in archives &amp; manuscripts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(Lets not forget TEI - text encoding is often applied to manuscripts … 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2D05-5C37-4ADD-A7CC-5924FD7E13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tart with some simple collaboration …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ile there may be distinct differences by organisation or area, ontologies can be adopted in several common area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ers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ime and time fr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ocation and changing names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uthority control can form a sound basis for cross referencing across collections and organisations – we could collaborate on shared published authority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set of common content models, such as for newspapers and other content typ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14B9-F140-4CC8-A857-2A02FC99B4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07:21:21Z</dcterms:modified>
  <cp:revision>6</cp:revision>
  <dc:subject/>
  <dc:title>TITLE</dc:title>
</cp:coreProperties>
</file>