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524253-678F-4560-9BE5-047E32049C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7924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3908520"/>
            <a:ext cx="7924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F6FC11-C119-4A54-83D6-47767E82D7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38671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598400"/>
            <a:ext cx="38671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908520"/>
            <a:ext cx="38671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46240" y="3908520"/>
            <a:ext cx="38671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26D79C-9EC6-4F36-94D1-A31A58E5D4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2551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64920" y="1598400"/>
            <a:ext cx="2551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4760" y="1598400"/>
            <a:ext cx="2551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3908520"/>
            <a:ext cx="2551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64920" y="3908520"/>
            <a:ext cx="2551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4760" y="3908520"/>
            <a:ext cx="2551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36B61C-1F85-421B-9A82-996255D2724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440" y="1598400"/>
            <a:ext cx="792468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792468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38671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46240" y="1598400"/>
            <a:ext cx="38671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761760" y="382680"/>
            <a:ext cx="78483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38671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46240" y="1598400"/>
            <a:ext cx="38671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440" y="3908520"/>
            <a:ext cx="38671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598400"/>
            <a:ext cx="792468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8B2A0A-0FA8-4E1D-BA30-FCD88D758CD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38671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598400"/>
            <a:ext cx="38671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46240" y="3908520"/>
            <a:ext cx="38671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38671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46240" y="1598400"/>
            <a:ext cx="38671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440" y="3908520"/>
            <a:ext cx="7924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7924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440" y="3908520"/>
            <a:ext cx="7924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38671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46240" y="1598400"/>
            <a:ext cx="38671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440" y="3908520"/>
            <a:ext cx="38671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46240" y="3908520"/>
            <a:ext cx="38671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2551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64920" y="1598400"/>
            <a:ext cx="2551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44760" y="1598400"/>
            <a:ext cx="2551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440" y="3908520"/>
            <a:ext cx="2551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64920" y="3908520"/>
            <a:ext cx="2551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44760" y="3908520"/>
            <a:ext cx="2551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792468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9594A6-493E-4E0D-95DB-0DF4ED7AE4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38671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46240" y="1598400"/>
            <a:ext cx="38671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0225B8-47EE-4B64-B744-5B0280DD4C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DA82C1-EA8C-4388-91E6-180231512C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382680"/>
            <a:ext cx="78483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8D6E2C-FC4A-4280-8CA3-0E00B05F3D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38671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46240" y="1598400"/>
            <a:ext cx="38671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3908520"/>
            <a:ext cx="38671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3C3A51-02FF-405D-8143-0BCFBA1E86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38671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6240" y="1598400"/>
            <a:ext cx="38671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46240" y="3908520"/>
            <a:ext cx="38671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8345FE-3839-461D-BFDA-F1582BA777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38671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46240" y="1598400"/>
            <a:ext cx="38671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3908520"/>
            <a:ext cx="7924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7BB1D4-FEB0-4973-89D1-8A8F19623B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35120" y="0"/>
            <a:ext cx="8408880" cy="1341360"/>
          </a:xfrm>
          <a:prstGeom prst="rect">
            <a:avLst/>
          </a:prstGeom>
          <a:solidFill>
            <a:srgbClr val="9cd4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31313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31313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598400"/>
            <a:ext cx="792468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spcBef>
                <a:spcPts val="220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2" marL="569880" indent="-277920">
              <a:spcBef>
                <a:spcPts val="2200"/>
              </a:spcBef>
              <a:buClr>
                <a:srgbClr val="c6172c"/>
              </a:buClr>
              <a:buSzPct val="7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3" marL="851040" indent="-279360">
              <a:spcBef>
                <a:spcPts val="2200"/>
              </a:spcBef>
              <a:buClr>
                <a:srgbClr val="c6172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4" marL="1244520" indent="-203040">
              <a:spcBef>
                <a:spcPts val="2200"/>
              </a:spcBef>
              <a:buClr>
                <a:srgbClr val="c6172c"/>
              </a:buClr>
              <a:buSzPct val="115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5" marL="1244520" indent="-203040">
              <a:spcBef>
                <a:spcPts val="2200"/>
              </a:spcBef>
              <a:buClr>
                <a:srgbClr val="131313"/>
              </a:buClr>
              <a:buSzPct val="115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6" marL="1244520" indent="-203040">
              <a:spcBef>
                <a:spcPts val="2200"/>
              </a:spcBef>
              <a:buClr>
                <a:srgbClr val="131313"/>
              </a:buClr>
              <a:buSzPct val="115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732720" y="638136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31313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0AFA8-C7B0-460B-9365-AF45A791A610}" type="slidenum">
              <a:rPr b="0" lang="en-US" sz="1400" spc="-1" strike="noStrike">
                <a:solidFill>
                  <a:srgbClr val="13131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685800" cy="1341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cd4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31313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19280" y="1268280"/>
            <a:ext cx="7524720" cy="1656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31313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050560" y="1701720"/>
            <a:ext cx="66344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31313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717480" y="1268280"/>
            <a:ext cx="846360" cy="16542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1" marL="144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2" marL="291960" algn="ctr">
              <a:spcBef>
                <a:spcPts val="550"/>
              </a:spcBef>
              <a:buClr>
                <a:srgbClr val="c6172c"/>
              </a:buClr>
              <a:buSzPct val="7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3" marL="571680" algn="ctr">
              <a:spcBef>
                <a:spcPts val="550"/>
              </a:spcBef>
              <a:buClr>
                <a:srgbClr val="c6172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4" marL="1041480" algn="ctr">
              <a:spcBef>
                <a:spcPts val="550"/>
              </a:spcBef>
              <a:buClr>
                <a:srgbClr val="c6172c"/>
              </a:buClr>
              <a:buSzPct val="11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Syntax"/>
              </a:rPr>
              <a:t>Fifth Outline Level</a:t>
            </a:r>
            <a:endParaRPr b="0" lang="en-US" sz="2200" spc="-1" strike="noStrike">
              <a:solidFill>
                <a:srgbClr val="131313"/>
              </a:solidFill>
              <a:latin typeface="Syntax"/>
            </a:endParaRPr>
          </a:p>
          <a:p>
            <a:pPr lvl="5" marL="1041480">
              <a:spcBef>
                <a:spcPts val="550"/>
              </a:spcBef>
              <a:buClr>
                <a:srgbClr val="131313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Syntax"/>
              </a:rPr>
              <a:t>Sixth Outline Level</a:t>
            </a:r>
            <a:endParaRPr b="0" lang="en-US" sz="2200" spc="-1" strike="noStrike">
              <a:solidFill>
                <a:srgbClr val="131313"/>
              </a:solidFill>
              <a:latin typeface="Syntax"/>
            </a:endParaRPr>
          </a:p>
          <a:p>
            <a:pPr lvl="6" marL="1041480">
              <a:spcBef>
                <a:spcPts val="550"/>
              </a:spcBef>
              <a:buClr>
                <a:srgbClr val="131313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Syntax"/>
              </a:rPr>
              <a:t>Seventh Outline Level</a:t>
            </a:r>
            <a:endParaRPr b="0" lang="en-US" sz="2200" spc="-1" strike="noStrike">
              <a:solidFill>
                <a:srgbClr val="131313"/>
              </a:solidFill>
              <a:latin typeface="Syntax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050560" y="1701720"/>
            <a:ext cx="66344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1313"/>
                </a:solidFill>
                <a:latin typeface="Arial"/>
              </a:rPr>
              <a:t>Interoperable Digitised Content</a:t>
            </a:r>
            <a:endParaRPr b="1" lang="en-US" sz="28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050560" y="3429000"/>
            <a:ext cx="6634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131313"/>
                </a:solidFill>
                <a:latin typeface="Arial"/>
              </a:rPr>
              <a:t>“</a:t>
            </a:r>
            <a:r>
              <a:rPr b="0" i="1" lang="en-GB" sz="2200" spc="-1" strike="noStrike">
                <a:solidFill>
                  <a:srgbClr val="131313"/>
                </a:solidFill>
                <a:latin typeface="Arial"/>
              </a:rPr>
              <a:t>Discover, search, extract, link,</a:t>
            </a:r>
            <a:br>
              <a:rPr sz="2200"/>
            </a:br>
            <a:r>
              <a:rPr b="0" i="1" lang="en-GB" sz="2200" spc="-1" strike="noStrike">
                <a:solidFill>
                  <a:srgbClr val="131313"/>
                </a:solidFill>
                <a:latin typeface="Arial"/>
              </a:rPr>
              <a:t>associate, and view digitised content”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Les Carr 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31313"/>
                </a:solidFill>
                <a:latin typeface="Arial"/>
              </a:rPr>
              <a:t>Opportunities …</a:t>
            </a: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792468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287280" indent="-285840">
              <a:spcBef>
                <a:spcPts val="499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1313"/>
                </a:solidFill>
                <a:latin typeface="Arial"/>
              </a:rPr>
              <a:t>Libraries may be able to adapt the BBC approach in mixing in-house and external resources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lvl="1" marL="287280" indent="-285840">
              <a:spcBef>
                <a:spcPts val="499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1313"/>
                </a:solidFill>
                <a:latin typeface="Arial"/>
              </a:rPr>
              <a:t>There is interest in exploring the use of EAD and RDF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lvl="1" marL="287280" indent="-285840">
              <a:spcBef>
                <a:spcPts val="499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1313"/>
                </a:solidFill>
                <a:latin typeface="Arial"/>
              </a:rPr>
              <a:t>From the brief: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lvl="2" marL="564120" indent="-275040">
              <a:spcBef>
                <a:spcPts val="499"/>
              </a:spcBef>
              <a:buClr>
                <a:srgbClr val="c6172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1313"/>
                </a:solidFill>
                <a:latin typeface="Arial"/>
              </a:rPr>
              <a:t>Content from separate libraries is accessed (eg Newspapers published in different countries on the same date)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lvl="2" marL="564120" indent="-275040">
              <a:spcBef>
                <a:spcPts val="499"/>
              </a:spcBef>
              <a:buClr>
                <a:srgbClr val="c6172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1313"/>
                </a:solidFill>
                <a:latin typeface="Arial"/>
              </a:rPr>
              <a:t>Content to be found, independent of location, that refers to the same event from multiple content sources (e.g. start of first world war)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lvl="2" marL="564120" indent="-275040">
              <a:spcBef>
                <a:spcPts val="499"/>
              </a:spcBef>
              <a:buClr>
                <a:srgbClr val="c6172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1313"/>
                </a:solidFill>
                <a:latin typeface="Arial"/>
              </a:rPr>
              <a:t>Images to be located that are taken of the same object/place over time from different sources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lvl="2" marL="564120" indent="-275040">
              <a:spcBef>
                <a:spcPts val="499"/>
              </a:spcBef>
              <a:buClr>
                <a:srgbClr val="c6172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1313"/>
                </a:solidFill>
                <a:latin typeface="Arial"/>
              </a:rPr>
              <a:t>Discover references people, names and places in documents held by separate libraries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lvl="2" marL="5641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D1A95B-0F3B-4B66-BFA0-BDCA54525FE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31313"/>
                </a:solidFill>
                <a:latin typeface="Arial"/>
              </a:rPr>
              <a:t>Topics covered …</a:t>
            </a: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792468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290520" indent="-289080">
              <a:spcBef>
                <a:spcPts val="55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Arial"/>
              </a:rPr>
              <a:t>The brief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spcBef>
                <a:spcPts val="55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Arial"/>
              </a:rPr>
              <a:t>Observations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spcBef>
                <a:spcPts val="55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Arial"/>
              </a:rPr>
              <a:t>Challenges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spcBef>
                <a:spcPts val="55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Arial"/>
              </a:rPr>
              <a:t>On EAD (encoded archival description)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spcBef>
                <a:spcPts val="55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Arial"/>
              </a:rPr>
              <a:t>Opportunities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8ABF94-190E-4061-B71F-C28B25ACF1B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31313"/>
                </a:solidFill>
                <a:latin typeface="Arial"/>
              </a:rPr>
              <a:t>The Brief …</a:t>
            </a: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7924680" cy="47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31313"/>
                </a:solidFill>
                <a:latin typeface="Arial"/>
              </a:rPr>
              <a:t>Background:</a:t>
            </a:r>
            <a:endParaRPr b="0" lang="en-US" sz="18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lnSpc>
                <a:spcPct val="80000"/>
              </a:lnSpc>
              <a:spcBef>
                <a:spcPts val="451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31313"/>
                </a:solidFill>
                <a:latin typeface="Arial"/>
              </a:rPr>
              <a:t>There have been many major digitisation projects producing millions of  image files</a:t>
            </a:r>
            <a:endParaRPr b="0" lang="en-US" sz="18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lnSpc>
                <a:spcPct val="80000"/>
              </a:lnSpc>
              <a:spcBef>
                <a:spcPts val="451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31313"/>
                </a:solidFill>
                <a:latin typeface="Arial"/>
              </a:rPr>
              <a:t>Often hosted only on an organisation’s web site with a customised user interface </a:t>
            </a:r>
            <a:endParaRPr b="0" lang="en-US" sz="1800" spc="-1" strike="noStrike">
              <a:solidFill>
                <a:srgbClr val="131313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31313"/>
                </a:solidFill>
                <a:latin typeface="Arial"/>
              </a:rPr>
              <a:t>Libraries would like to provide broader access, for example, by:</a:t>
            </a:r>
            <a:endParaRPr b="0" lang="en-US" sz="18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lnSpc>
                <a:spcPct val="80000"/>
              </a:lnSpc>
              <a:spcBef>
                <a:spcPts val="451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31313"/>
                </a:solidFill>
                <a:latin typeface="Arial"/>
              </a:rPr>
              <a:t>Content from separate libraries to be compared:</a:t>
            </a:r>
            <a:br>
              <a:rPr sz="1800"/>
            </a:br>
            <a:r>
              <a:rPr b="0" lang="en-GB" sz="1800" spc="-1" strike="noStrike">
                <a:solidFill>
                  <a:srgbClr val="131313"/>
                </a:solidFill>
                <a:latin typeface="Arial"/>
              </a:rPr>
              <a:t>eg Newspapers published in different countries on the same date </a:t>
            </a:r>
            <a:endParaRPr b="0" lang="en-US" sz="18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lnSpc>
                <a:spcPct val="80000"/>
              </a:lnSpc>
              <a:spcBef>
                <a:spcPts val="451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31313"/>
                </a:solidFill>
                <a:latin typeface="Arial"/>
              </a:rPr>
              <a:t>Content to be found, independent of location, that refers to the same event from multiple content sources (e.g. start of first world war)</a:t>
            </a:r>
            <a:endParaRPr b="0" lang="en-US" sz="18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lnSpc>
                <a:spcPct val="80000"/>
              </a:lnSpc>
              <a:spcBef>
                <a:spcPts val="451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31313"/>
                </a:solidFill>
                <a:latin typeface="Arial"/>
              </a:rPr>
              <a:t>Images to be located that are taken of the same object/place over time from different sources</a:t>
            </a:r>
            <a:endParaRPr b="0" lang="en-US" sz="18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lnSpc>
                <a:spcPct val="80000"/>
              </a:lnSpc>
              <a:spcBef>
                <a:spcPts val="451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31313"/>
                </a:solidFill>
                <a:latin typeface="Arial"/>
              </a:rPr>
              <a:t>Discover references people, names and places in documents held by separate libraries</a:t>
            </a:r>
            <a:endParaRPr b="0" lang="en-US" sz="1800" spc="-1" strike="noStrike">
              <a:solidFill>
                <a:srgbClr val="131313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31313"/>
                </a:solidFill>
                <a:latin typeface="Arial"/>
              </a:rPr>
              <a:t>We would like to explore the possibility of using Linked Data technologies to facilitate these use cases. </a:t>
            </a:r>
            <a:endParaRPr b="0" lang="en-US" sz="18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1D8834-F22F-4B57-BBAA-2763746ADB0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31313"/>
                </a:solidFill>
                <a:latin typeface="Arial"/>
              </a:rPr>
              <a:t>Observations …</a:t>
            </a: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7924680" cy="49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290520" indent="-289080">
              <a:spcBef>
                <a:spcPts val="499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1313"/>
                </a:solidFill>
                <a:latin typeface="Arial"/>
              </a:rPr>
              <a:t>Each digitisation project has tended to end up with its own silo.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spcBef>
                <a:spcPts val="499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1313"/>
                </a:solidFill>
                <a:latin typeface="Arial"/>
              </a:rPr>
              <a:t>BBC is transforming and at least partly becoming a library – there is significant web access to previously broadcast content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spcBef>
                <a:spcPts val="499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1313"/>
                </a:solidFill>
                <a:latin typeface="Arial"/>
              </a:rPr>
              <a:t>An organisation needs to adopt a form of </a:t>
            </a:r>
            <a:r>
              <a:rPr b="0" lang="en-US" sz="2000" spc="-1" strike="noStrike" u="sng">
                <a:solidFill>
                  <a:srgbClr val="131313"/>
                </a:solidFill>
                <a:uFillTx/>
                <a:latin typeface="Arial"/>
              </a:rPr>
              <a:t>persistent identifier</a:t>
            </a:r>
            <a:r>
              <a:rPr b="0" lang="en-US" sz="2000" spc="-1" strike="noStrike">
                <a:solidFill>
                  <a:srgbClr val="131313"/>
                </a:solidFill>
                <a:latin typeface="Arial"/>
              </a:rPr>
              <a:t> for each asset (as per 1</a:t>
            </a:r>
            <a:r>
              <a:rPr b="0" lang="en-US" sz="2000" spc="-1" strike="noStrike" baseline="30000">
                <a:solidFill>
                  <a:srgbClr val="131313"/>
                </a:solidFill>
                <a:latin typeface="Arial"/>
              </a:rPr>
              <a:t>st</a:t>
            </a:r>
            <a:r>
              <a:rPr b="0" lang="en-US" sz="2000" spc="-1" strike="noStrike">
                <a:solidFill>
                  <a:srgbClr val="131313"/>
                </a:solidFill>
                <a:latin typeface="Arial"/>
              </a:rPr>
              <a:t> principle) &amp; then publish (2</a:t>
            </a:r>
            <a:r>
              <a:rPr b="0" lang="en-US" sz="2000" spc="-1" strike="noStrike" baseline="30000">
                <a:solidFill>
                  <a:srgbClr val="131313"/>
                </a:solidFill>
                <a:latin typeface="Arial"/>
              </a:rPr>
              <a:t>nd</a:t>
            </a:r>
            <a:r>
              <a:rPr b="0" lang="en-US" sz="2000" spc="-1" strike="noStrike">
                <a:solidFill>
                  <a:srgbClr val="131313"/>
                </a:solidFill>
                <a:latin typeface="Arial"/>
              </a:rPr>
              <a:t> principle)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spcBef>
                <a:spcPts val="499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1313"/>
                </a:solidFill>
                <a:latin typeface="Arial"/>
              </a:rPr>
              <a:t>A German funding agency mandates that there are persistent identifiers for digitised images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spcBef>
                <a:spcPts val="499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1313"/>
                </a:solidFill>
                <a:latin typeface="Arial"/>
              </a:rPr>
              <a:t>Its not clear what are the benefits of RDF, but it seems to be a fast and easy way of publishing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spcBef>
                <a:spcPts val="499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1313"/>
                </a:solidFill>
                <a:latin typeface="Arial"/>
              </a:rPr>
              <a:t>It is good practice to separate (or distinguish between) content and the way to present it – RDF can help this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spcBef>
                <a:spcPts val="499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1313"/>
                </a:solidFill>
                <a:latin typeface="Arial"/>
              </a:rPr>
              <a:t>Helpful to have availability information about the item in RDF (e.g. whether it is on line or not)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spcBef>
                <a:spcPts val="499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1313"/>
                </a:solidFill>
                <a:latin typeface="Arial"/>
              </a:rPr>
              <a:t>Publish in JSON as well as RDF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5F7804-87F4-40A4-BEBD-6B6E547A1DD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31313"/>
                </a:solidFill>
                <a:latin typeface="Arial"/>
              </a:rPr>
              <a:t>Challenges …</a:t>
            </a: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7924680" cy="47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287280" indent="-285840">
              <a:lnSpc>
                <a:spcPct val="90000"/>
              </a:lnSpc>
              <a:spcBef>
                <a:spcPts val="499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1313"/>
                </a:solidFill>
                <a:latin typeface="Arial"/>
              </a:rPr>
              <a:t>Often a single organisation may have multiple separate silos of digitised content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lvl="2" marL="564120" indent="-275040">
              <a:lnSpc>
                <a:spcPct val="90000"/>
              </a:lnSpc>
              <a:spcBef>
                <a:spcPts val="499"/>
              </a:spcBef>
              <a:buClr>
                <a:srgbClr val="c6172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1313"/>
                </a:solidFill>
                <a:latin typeface="Arial"/>
              </a:rPr>
              <a:t>They may be inconsistencies in many ways, such as the way they are described, searched, navigated, and the rights may differ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lvl="2" marL="564120" indent="-275040">
              <a:lnSpc>
                <a:spcPct val="90000"/>
              </a:lnSpc>
              <a:spcBef>
                <a:spcPts val="499"/>
              </a:spcBef>
              <a:buClr>
                <a:srgbClr val="c6172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1313"/>
                </a:solidFill>
                <a:latin typeface="Arial"/>
              </a:rPr>
              <a:t>Most organisations have an internal challenge to link their existing silos - in addition to the obvious external challenge in linking with other organisations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lvl="1" marL="287280" indent="-285840">
              <a:lnSpc>
                <a:spcPct val="90000"/>
              </a:lnSpc>
              <a:spcBef>
                <a:spcPts val="499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1313"/>
                </a:solidFill>
                <a:latin typeface="Arial"/>
              </a:rPr>
              <a:t>Rights: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lvl="2" marL="564120" indent="-275040">
              <a:lnSpc>
                <a:spcPct val="90000"/>
              </a:lnSpc>
              <a:spcBef>
                <a:spcPts val="499"/>
              </a:spcBef>
              <a:buClr>
                <a:srgbClr val="c6172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1313"/>
                </a:solidFill>
                <a:latin typeface="Arial"/>
              </a:rPr>
              <a:t>Out of copyright does not mean there are no restrictions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lvl="2" marL="564120" indent="-275040">
              <a:lnSpc>
                <a:spcPct val="90000"/>
              </a:lnSpc>
              <a:spcBef>
                <a:spcPts val="499"/>
              </a:spcBef>
              <a:buClr>
                <a:srgbClr val="c6172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1313"/>
                </a:solidFill>
                <a:latin typeface="Arial"/>
              </a:rPr>
              <a:t>Metadata rights are not necessarily the same as content rights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lvl="2" marL="564120" indent="-275040">
              <a:lnSpc>
                <a:spcPct val="90000"/>
              </a:lnSpc>
              <a:spcBef>
                <a:spcPts val="499"/>
              </a:spcBef>
              <a:buClr>
                <a:srgbClr val="c6172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1313"/>
                </a:solidFill>
                <a:latin typeface="Arial"/>
              </a:rPr>
              <a:t>Different organisations publish in different ways or modes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lvl="2" marL="564120" indent="-275040">
              <a:lnSpc>
                <a:spcPct val="90000"/>
              </a:lnSpc>
              <a:spcBef>
                <a:spcPts val="499"/>
              </a:spcBef>
              <a:buClr>
                <a:srgbClr val="c6172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1313"/>
                </a:solidFill>
                <a:latin typeface="Arial"/>
              </a:rPr>
              <a:t>Deals with rights owners may be “time limited”, but once info is published into public domain its not easy to retract it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lvl="2" marL="564120" indent="-275040">
              <a:lnSpc>
                <a:spcPct val="90000"/>
              </a:lnSpc>
              <a:spcBef>
                <a:spcPts val="499"/>
              </a:spcBef>
              <a:buClr>
                <a:srgbClr val="c6172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1313"/>
                </a:solidFill>
                <a:latin typeface="Arial"/>
              </a:rPr>
              <a:t>How do we record rights in RDF?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44B37A-2BD2-4F48-A1A5-6B783E3DAF0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31313"/>
                </a:solidFill>
                <a:latin typeface="Arial"/>
              </a:rPr>
              <a:t>Challenges …</a:t>
            </a: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792468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290520" indent="-289080">
              <a:lnSpc>
                <a:spcPct val="90000"/>
              </a:lnSpc>
              <a:spcBef>
                <a:spcPts val="55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Some organisations have a wide range of types of digitised content: such as letters, sheet music, pictures, documents, newspapers, books, pamphlets and also born digital content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lnSpc>
                <a:spcPct val="90000"/>
              </a:lnSpc>
              <a:spcBef>
                <a:spcPts val="55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The British Museum </a:t>
            </a:r>
            <a:r>
              <a:rPr b="0" i="1" lang="en-GB" sz="2200" spc="-1" strike="noStrike">
                <a:solidFill>
                  <a:srgbClr val="131313"/>
                </a:solidFill>
                <a:latin typeface="Arial"/>
              </a:rPr>
              <a:t>(&amp; others)</a:t>
            </a: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 measures contact time on its web site – if it publishes data then other sites may grab the user and so their own site traffic may reduce significantly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lnSpc>
                <a:spcPct val="90000"/>
              </a:lnSpc>
              <a:spcBef>
                <a:spcPts val="55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What are measures of success for a library if it exposes its data?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lnSpc>
                <a:spcPct val="90000"/>
              </a:lnSpc>
              <a:spcBef>
                <a:spcPts val="55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What is the future role for a library in the “supply chain”? As illustration, users may no longer go to a Mapping Agency so how does it demonstrate it provides a valued service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lnSpc>
                <a:spcPct val="90000"/>
              </a:lnSpc>
              <a:spcBef>
                <a:spcPts val="55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How do you demonstrate to funders that you are successful in a world of linked data?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EECE81-6C4C-4DE9-A9D3-51559924C11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31313"/>
                </a:solidFill>
                <a:latin typeface="Arial"/>
              </a:rPr>
              <a:t>Challenges …</a:t>
            </a: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792468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290520" indent="-289080">
              <a:spcBef>
                <a:spcPts val="55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If we convert several existing silos into RDF how might these be combined to produce a coherent user experience?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spcBef>
                <a:spcPts val="55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How might we create an RDF representation of METS? Typically each METS schema would depend on a model of the content that is being described, and these are different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spcBef>
                <a:spcPts val="55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Some digitisation projects are externally commercially funded and “publication” may compete with the funder’s business model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B61424-6AA5-4235-B015-B1F9ABF6985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31313"/>
                </a:solidFill>
                <a:latin typeface="Arial"/>
              </a:rPr>
              <a:t>On EAD (encoded archival description)</a:t>
            </a: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792468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287280" indent="-285840">
              <a:lnSpc>
                <a:spcPct val="90000"/>
              </a:lnSpc>
              <a:spcBef>
                <a:spcPts val="55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EAD describes in a rich manner the content in an archive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1" marL="287280" indent="-285840">
              <a:lnSpc>
                <a:spcPct val="90000"/>
              </a:lnSpc>
              <a:spcBef>
                <a:spcPts val="55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Can RDF cope with the levels, relationships and rich structure in EAD?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1" marL="287280" indent="-285840">
              <a:lnSpc>
                <a:spcPct val="90000"/>
              </a:lnSpc>
              <a:spcBef>
                <a:spcPts val="55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Can we create a “one fits all” model of EAD in RDF?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1" marL="287280" indent="-285840">
              <a:lnSpc>
                <a:spcPct val="90000"/>
              </a:lnSpc>
              <a:spcBef>
                <a:spcPts val="55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Some organisations share DC even though they retain MARC, so maybe some RDF might be shared about an EAD archive while a full EAD is retained.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1" marL="287280" indent="-285840">
              <a:lnSpc>
                <a:spcPct val="90000"/>
              </a:lnSpc>
              <a:spcBef>
                <a:spcPts val="55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Some organisations have many (e.g, ~3000) rich EAD silos – how might these be “cross walked”?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1" marL="287280" indent="-285840">
              <a:lnSpc>
                <a:spcPct val="90000"/>
              </a:lnSpc>
              <a:spcBef>
                <a:spcPts val="55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How do we share large scale resources in archives &amp; manuscripts?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1" marL="287280" indent="-285840">
              <a:lnSpc>
                <a:spcPct val="90000"/>
              </a:lnSpc>
              <a:spcBef>
                <a:spcPts val="55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(Lets not forget TEI - text encoding is often applied to manuscripts … )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1" marL="2872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F1E50F-492D-414B-829A-9E1FA10C6AB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31313"/>
                </a:solidFill>
                <a:latin typeface="Arial"/>
              </a:rPr>
              <a:t>Opportunities …</a:t>
            </a: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792468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290520" indent="-289080">
              <a:lnSpc>
                <a:spcPct val="90000"/>
              </a:lnSpc>
              <a:spcBef>
                <a:spcPts val="55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Start with some simple collaboration …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lnSpc>
                <a:spcPct val="90000"/>
              </a:lnSpc>
              <a:spcBef>
                <a:spcPts val="55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While there may be distinct differences by organisation or area, ontologies can be adopted in several common areas: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2" marL="569880" indent="-277920">
              <a:lnSpc>
                <a:spcPct val="90000"/>
              </a:lnSpc>
              <a:spcBef>
                <a:spcPts val="550"/>
              </a:spcBef>
              <a:buClr>
                <a:srgbClr val="c6172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Person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2" marL="569880" indent="-277920">
              <a:lnSpc>
                <a:spcPct val="90000"/>
              </a:lnSpc>
              <a:spcBef>
                <a:spcPts val="550"/>
              </a:spcBef>
              <a:buClr>
                <a:srgbClr val="c6172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Time and time frames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2" marL="569880" indent="-277920">
              <a:lnSpc>
                <a:spcPct val="90000"/>
              </a:lnSpc>
              <a:spcBef>
                <a:spcPts val="550"/>
              </a:spcBef>
              <a:buClr>
                <a:srgbClr val="c6172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Location and changing names over time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2" marL="569880" indent="-277920">
              <a:lnSpc>
                <a:spcPct val="90000"/>
              </a:lnSpc>
              <a:spcBef>
                <a:spcPts val="550"/>
              </a:spcBef>
              <a:buClr>
                <a:srgbClr val="c6172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Events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lnSpc>
                <a:spcPct val="90000"/>
              </a:lnSpc>
              <a:spcBef>
                <a:spcPts val="55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Authority control can form a sound basis for cross referencing across collections and organisations – we could collaborate on shared published authority files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lnSpc>
                <a:spcPct val="90000"/>
              </a:lnSpc>
              <a:spcBef>
                <a:spcPts val="55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Establish a set of common content models, such as for newspapers and other content types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5BC6FA-11D1-4CF5-A002-5B2B3ED2774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7T20:18:53Z</dcterms:created>
  <dc:creator>SeMartin</dc:creator>
  <dc:description/>
  <cp:keywords/>
  <dc:language>en-US</dc:language>
  <cp:lastModifiedBy>SeMartin</cp:lastModifiedBy>
  <dcterms:modified xsi:type="dcterms:W3CDTF">2010-05-28T07:21:21Z</dcterms:modified>
  <cp:revision>6</cp:revision>
  <dc:subject/>
  <dc:title>TITLE</dc:title>
</cp:coreProperties>
</file>