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D958A-6AEF-43E6-B5F3-09C5B62D82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90852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10B6B-1E04-4054-9126-715784FF7F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62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794DE-8A16-4ACC-AEFC-3288D5C6D2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492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492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CABCC-D2C4-40D7-8B0D-C551348517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1760" y="382680"/>
            <a:ext cx="78483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F0753-CFFF-483D-8140-D34124567D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62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390852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62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6492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476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6492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476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75424-511B-4F4A-AEDD-58222810B4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4F70F-874C-40A1-9645-02FD0B5226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3A931-F6B3-4ED0-AC8C-B0D362EEDF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382680"/>
            <a:ext cx="78483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1CBC7-4D3F-4C36-9238-AD34B63697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2993E-1811-45D1-AD32-FD53D24221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62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FA58C-59C8-4484-AFD5-95D4856431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984AE-E32A-4DF8-8973-8FF7AA1847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35120" y="0"/>
            <a:ext cx="8408880" cy="1341360"/>
          </a:xfrm>
          <a:prstGeom prst="rect">
            <a:avLst/>
          </a:prstGeom>
          <a:solidFill>
            <a:srgbClr val="9cd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220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220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3" marL="851040" indent="-279360">
              <a:spcBef>
                <a:spcPts val="2200"/>
              </a:spcBef>
              <a:buClr>
                <a:srgbClr val="c6172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4" marL="1244520" indent="-203040">
              <a:spcBef>
                <a:spcPts val="2200"/>
              </a:spcBef>
              <a:buClr>
                <a:srgbClr val="c6172c"/>
              </a:buClr>
              <a:buSzPct val="11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5" marL="1244520" indent="-203040">
              <a:spcBef>
                <a:spcPts val="2200"/>
              </a:spcBef>
              <a:buClr>
                <a:srgbClr val="131313"/>
              </a:buClr>
              <a:buSzPct val="11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6" marL="1244520" indent="-203040">
              <a:spcBef>
                <a:spcPts val="2200"/>
              </a:spcBef>
              <a:buClr>
                <a:srgbClr val="131313"/>
              </a:buClr>
              <a:buSzPct val="11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732720" y="63813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3131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1984F-48D9-4018-90A2-1D0E15B691CB}" type="slidenum">
              <a:rPr b="0" lang="en-GB" sz="1400" spc="-1" strike="noStrike">
                <a:solidFill>
                  <a:srgbClr val="13131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85800" cy="134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cd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19280" y="1268280"/>
            <a:ext cx="7524720" cy="16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50560" y="1701720"/>
            <a:ext cx="66344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17480" y="1268280"/>
            <a:ext cx="846360" cy="1654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144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291960" algn="ctr"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3" marL="571680" algn="ctr">
              <a:spcBef>
                <a:spcPts val="550"/>
              </a:spcBef>
              <a:buClr>
                <a:srgbClr val="c6172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4" marL="1041480" algn="ctr">
              <a:spcBef>
                <a:spcPts val="550"/>
              </a:spcBef>
              <a:buClr>
                <a:srgbClr val="c6172c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Syntax"/>
              </a:rPr>
              <a:t>Fifth Outline Level</a:t>
            </a:r>
            <a:endParaRPr b="0" lang="en-US" sz="2200" spc="-1" strike="noStrike">
              <a:solidFill>
                <a:srgbClr val="131313"/>
              </a:solidFill>
              <a:latin typeface="Syntax"/>
            </a:endParaRPr>
          </a:p>
          <a:p>
            <a:pPr lvl="5" marL="1041480">
              <a:spcBef>
                <a:spcPts val="550"/>
              </a:spcBef>
              <a:buClr>
                <a:srgbClr val="131313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Syntax"/>
              </a:rPr>
              <a:t>Sixth Outline Level</a:t>
            </a:r>
            <a:endParaRPr b="0" lang="en-US" sz="2200" spc="-1" strike="noStrike">
              <a:solidFill>
                <a:srgbClr val="131313"/>
              </a:solidFill>
              <a:latin typeface="Syntax"/>
            </a:endParaRPr>
          </a:p>
          <a:p>
            <a:pPr lvl="6" marL="1041480">
              <a:spcBef>
                <a:spcPts val="550"/>
              </a:spcBef>
              <a:buClr>
                <a:srgbClr val="131313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Syntax"/>
              </a:rPr>
              <a:t>Seventh Outline Level</a:t>
            </a:r>
            <a:endParaRPr b="0" lang="en-US" sz="2200" spc="-1" strike="noStrike">
              <a:solidFill>
                <a:srgbClr val="131313"/>
              </a:solidFill>
              <a:latin typeface="Syntax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50560" y="1701720"/>
            <a:ext cx="66344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31313"/>
                </a:solidFill>
                <a:latin typeface="Arial"/>
              </a:rPr>
              <a:t>Developing and using URIs</a:t>
            </a:r>
            <a:endParaRPr b="1" lang="en-US" sz="28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050560" y="3429000"/>
            <a:ext cx="6634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1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131313"/>
                </a:solidFill>
                <a:latin typeface="Arial"/>
              </a:rPr>
              <a:t>Institutional perspective</a:t>
            </a:r>
            <a:endParaRPr b="0" lang="en-US" sz="31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Facilitator: Les Carr 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National library perspectiv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Actions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Parties seeking interoperability can collaborate to establish: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Models for types of content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Best practice for URI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Policies for URI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Andreas Juffinger @ Europeana offered to host discussions / wiki space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2A7E4-34C2-42BD-B018-18599D34C22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Contrast between institution and national library perspectives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862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Institutional perspective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Emphasis on people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Concerned with the “now”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23920" y="1598400"/>
            <a:ext cx="38862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National library perspective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Emphasis on object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Concerned with “long term” &amp; scale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B1240-1509-48AA-9558-59618167986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Institutional perspectiv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Typical department or institution context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Before introducing a scheme it is likely that some identifiers will already exist, such as for staff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The department or institution sets up a repository with URI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A principle purpose is to ensure the full “inventory” of published works is available for research assessment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Links for staff will be to the existing identifier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URIs will be assigned to new works as they are created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Additional URIs may be assigned for external entities such as co-authors and journals.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If we can reliably infer that the same journal is multiply referenced then the same identifier can be used 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Identifiers for “externals” may typically duplicate identifiers issued elsewhere and would need to be “same-as”ed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DDA77-56DA-48B8-9EBB-3C058AFBAC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Institutional perspectiv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Typical department or institution context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The repository and the identifier scheme become embedded in the “business” operation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This introduces a common structure and proces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Open access to the repository simplifies, speeds and makes more consistent the process of referencing other work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There is a need for a policy for managing URIs, such a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Without a URI an entity cannot be referenced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Management of records, subject trees, etc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Recognise that there may be multiple identifiers for the same entity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A8A4B-6B97-4E29-9714-A0A2661794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Institutional perspectiv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Observations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Methods for creating URI’s: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Extract some information from the object and include it when creating the identifier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If an object originates externally then one may incorporate some of the information about it in forming the new identifier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The UK government has recently issued URI guideline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Opportunity for a small number of like minded organisations to work together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02EF0-66A2-4DCE-94ED-3269051704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Institutional perspectiv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Actions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Invite small number of like minded organisations to work together, but keep it smal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Establish a “best practice” guide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Hugh Glaser @ Southampton invited URIs to be sent to him and he would maintain same-as relation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C5FC3-F00F-44DF-8A21-A62529A2B98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50560" y="1701720"/>
            <a:ext cx="66344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31313"/>
                </a:solidFill>
                <a:latin typeface="Arial"/>
              </a:rPr>
              <a:t>Developing and using URIs</a:t>
            </a:r>
            <a:endParaRPr b="1" lang="en-US" sz="28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050560" y="3429000"/>
            <a:ext cx="6634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1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131313"/>
                </a:solidFill>
                <a:latin typeface="Arial"/>
              </a:rPr>
              <a:t>National library perspective</a:t>
            </a:r>
            <a:endParaRPr b="0" lang="en-US" sz="31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Facilitator: Sean Martin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National library perspectiv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Typical context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The library receives a significant volume of externally published items on a long term basi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It publishes its own works – often these are digitised image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There are issues of scale and long term, such as changing titles and other name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A proportion of the “work” is dealing with exceptions / error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There is a notion of version management, as content and metadata can be updated and so change over time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The identifier tends to refer to the logical item of which there may be several versions/manifestation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65D61-A4C3-46C3-9C8D-B04787CF9A4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National library perspectiv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Observations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Do we want to have, or not have, semantics within the URI, as the way it is described may change over time?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A URI must be persistent and unique and its form is less important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Its not essential to have URIs for interoperability but it may help a lot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Difficult to resolve names, places, etc without standardised vocabulary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URIs can depend on an underlying content model, but content models tend to change over time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In linked data, some URLs will break, hence maybe a finite lifetime should be offered for a URI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6732E-6F3D-4A81-AC04-62322BAA3E3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National library perspectiv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Observations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An individual organisation could proceed to define URIs and publish, but there is a risk of incompatibility with other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At least one library would like to proceed but hesitates to go it alone without some reassurance of compatability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This risk is mitigated by collaboration – see action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URIs would refer to “objects” not file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ADDA2-5CD7-4198-BB57-06F45AD779C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7T20:18:53Z</dcterms:created>
  <dc:creator>SeMartin</dc:creator>
  <dc:description/>
  <cp:keywords/>
  <dc:language>en-US</dc:language>
  <cp:lastModifiedBy>SeMartin</cp:lastModifiedBy>
  <dcterms:modified xsi:type="dcterms:W3CDTF">2010-05-28T18:42:26Z</dcterms:modified>
  <cp:revision>14</cp:revision>
  <dc:subject/>
  <dc:title>TITLE</dc:title>
</cp:coreProperties>
</file>