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CC92E-7E77-4A50-88AA-F076B8AD62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4EF32-7401-4AA0-94C4-1F6D2255E1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7CE93-91EA-4E6B-B040-81C0A7845E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92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92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37733-9890-4984-8C3D-F9DB101B3F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1760" y="3826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0E5CE-CA15-4CCA-89EE-4187E112EC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92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476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92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476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F725B-A034-4128-A90E-725E8DA06C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0937C-708A-4833-8FD1-A2ADC0E10B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DDAAA-34F6-4771-800A-3C016F734E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3826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EE9BB-5F5C-4AE1-AA2A-98AC607AC9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FCAA1-091B-49BD-BD20-67699CFD47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AD7AD-1A8D-4402-9364-BBA9CF46C4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18D84-1939-4FC4-84F9-E669786BBB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35120" y="0"/>
            <a:ext cx="8408880" cy="1341360"/>
          </a:xfrm>
          <a:prstGeom prst="rect">
            <a:avLst/>
          </a:prstGeom>
          <a:solidFill>
            <a:srgbClr val="9cd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220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220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3" marL="851040" indent="-279360">
              <a:spcBef>
                <a:spcPts val="2200"/>
              </a:spcBef>
              <a:buClr>
                <a:srgbClr val="c6172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4" marL="1244520" indent="-203040">
              <a:spcBef>
                <a:spcPts val="2200"/>
              </a:spcBef>
              <a:buClr>
                <a:srgbClr val="c6172c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5" marL="1244520" indent="-203040">
              <a:spcBef>
                <a:spcPts val="220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6" marL="1244520" indent="-203040">
              <a:spcBef>
                <a:spcPts val="220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732720" y="6381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3131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9749-03C6-4B90-A448-EDCBCBA32F2B}" type="slidenum">
              <a:rPr b="0" lang="en-GB" sz="1400" spc="-1" strike="noStrike">
                <a:solidFill>
                  <a:srgbClr val="13131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5800" cy="134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cd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19280" y="1268280"/>
            <a:ext cx="7524720" cy="16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0560" y="1701720"/>
            <a:ext cx="6634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17480" y="1268280"/>
            <a:ext cx="846360" cy="1654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144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291960" algn="ctr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3" marL="571680" algn="ctr">
              <a:spcBef>
                <a:spcPts val="550"/>
              </a:spcBef>
              <a:buClr>
                <a:srgbClr val="c6172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4" marL="1041480" algn="ctr">
              <a:spcBef>
                <a:spcPts val="550"/>
              </a:spcBef>
              <a:buClr>
                <a:srgbClr val="c6172c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Fif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  <a:p>
            <a:pPr lvl="5" marL="1041480">
              <a:spcBef>
                <a:spcPts val="55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Six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  <a:p>
            <a:pPr lvl="6" marL="1041480">
              <a:spcBef>
                <a:spcPts val="55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Seven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0560" y="1701720"/>
            <a:ext cx="6634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31313"/>
                </a:solidFill>
                <a:latin typeface="Arial"/>
              </a:rPr>
              <a:t>Developing and using URIs</a:t>
            </a:r>
            <a:endParaRPr b="1" lang="en-US" sz="28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0560" y="3429000"/>
            <a:ext cx="6634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131313"/>
                </a:solidFill>
                <a:latin typeface="Arial"/>
              </a:rPr>
              <a:t>Institutional perspective</a:t>
            </a:r>
            <a:endParaRPr b="0" lang="en-US" sz="31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Facilitator: Les Carr 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National library perspectiv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Action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Parties seeking interoperability can collaborate to establish: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Models for types of conten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Best practice for URI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Policies for URI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Andreas Juffinger @ Europeana offered to host discussions / wiki spac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0A3D4-2D1A-4E7E-B6C6-F84CA04065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ontrast between institution and national library perspective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862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Institutional perspective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Emphasis on people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Concerned with the “now”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23920" y="1598400"/>
            <a:ext cx="38862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National library perspective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Emphasis on object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Concerned with “long term” &amp; scale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85C9E-570A-49B2-A8C3-FA2EFD253D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Institutional perspectiv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Typical department or institution contex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Before introducing a scheme it is likely that some identifiers will already exist, such as for staff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The department or institution sets up a repository with URI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A principle purpose is to ensure the full “inventory” of published works is available for research assessmen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Links for staff will be to the existing identifier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URIs will be assigned to new works as they are created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Additional URIs may be assigned for external entities such as co-authors and journals.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If we can reliably infer that the same journal is multiply referenced then the same identifier can be used 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Identifiers for “externals” may typically duplicate identifiers issued elsewhere and would need to be “same-as”ed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6EA07-2C21-492D-A3FB-1B9066D6F7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Institutional perspectiv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Typical department or institution contex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The repository and the identifier scheme become embedded in the “business” operation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This introduces a common structure and proces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Open access to the repository simplifies, speeds and makes more consistent the process of referencing other work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There is a need for a policy for managing URIs, such a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Without a URI an entity cannot be referenced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Management of records, subject trees, etc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Recognise that there may be multiple identifiers for the same entity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9CF80-B4CC-4DA1-85BD-553D4C58A5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Institutional perspectiv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Observation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Methods for creating URI’s: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Extract some information from the object and include it when creating the identifier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If an object originates externally then one may incorporate some of the information about it in forming the new identifier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The UK government has recently issued URI guidelin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Opportunity for a small number of like minded organisations to work together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76D1B-87CE-435E-BB56-6DBEE0679F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Institutional perspectiv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Action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Invite small number of like minded organisations to work together, but keep it smal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Establish a “best practice” guid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Hugh Glaser @ Southampton invited URIs to be sent to him and he would maintain same-as relation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5F564-35E8-463E-821B-17A1C0BB46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0560" y="1701720"/>
            <a:ext cx="6634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31313"/>
                </a:solidFill>
                <a:latin typeface="Arial"/>
              </a:rPr>
              <a:t>Developing and using URIs</a:t>
            </a:r>
            <a:endParaRPr b="1" lang="en-US" sz="28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050560" y="3429000"/>
            <a:ext cx="6634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131313"/>
                </a:solidFill>
                <a:latin typeface="Arial"/>
              </a:rPr>
              <a:t>National library perspective</a:t>
            </a:r>
            <a:endParaRPr b="0" lang="en-US" sz="31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Facilitator: Sean Martin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National library perspectiv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Typical contex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e library receives a significant volume of externally published items on a long term basi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It publishes its own works – often these are digitised imag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ere are issues of scale and long term, such as changing titles and other nam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A proportion of the “work” is dealing with exceptions / error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ere is a notion of version management, as content and metadata can be updated and so change over tim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e identifier tends to refer to the logical item of which there may be several versions/manifestation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3F4A5-F5B0-4E80-9A49-DDC961F0BA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National library perspectiv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Observation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Do we want to have, or not have, semantics within the URI, as the way it is described may change over time?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A URI must be persistent and unique and its form is less importan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Its not essential to have URIs for interoperability but it may help a lo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Difficult to resolve names, places, etc without standardised vocabulary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URIs can depend on an underlying content model, but content models tend to change over tim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In linked data, some URLs will break, hence maybe a finite lifetime should be offered for a URI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14D4E-3E78-46D1-9E80-675D5CDED8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National library perspectiv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Observation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An individual organisation could proceed to define URIs and publish, but there is a risk of incompatibility with other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At least one library would like to proceed but hesitates to go it alone without some reassurance of compatability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This risk is mitigated by collaboration – see action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URIs would refer to “objects” not fil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C4ACF-AA79-4787-9266-4C2E084643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20:18:53Z</dcterms:created>
  <dc:creator>SeMartin</dc:creator>
  <dc:description/>
  <cp:keywords/>
  <dc:language>en-US</dc:language>
  <cp:lastModifiedBy>SeMartin</cp:lastModifiedBy>
  <dcterms:modified xsi:type="dcterms:W3CDTF">2010-05-28T18:42:26Z</dcterms:modified>
  <cp:revision>14</cp:revision>
  <dc:subject/>
  <dc:title>TITLE</dc:title>
</cp:coreProperties>
</file>