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20929-287D-4DBA-AC55-FBACA2EF2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359A-AAAF-4C4C-90B5-557C2B164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92A9-77E3-42BC-8E86-70B8E7CD7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3B72-39F4-4742-B436-7206D97F9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06DEC-95BF-4340-887A-0952CB070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07FCC-C2FE-4317-9367-FCC1FC701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9F7F-F8B5-4FE8-A4CE-8EBE64CE7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ED57-2E08-4790-9C26-8944F7844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D6B85-1C3D-46C1-8DC4-DE2244F46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A248-A236-44CE-913C-182242017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A584-1107-41C3-A450-D1E271B2B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4FA9-3031-4E48-A39D-045083119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5120" y="0"/>
            <a:ext cx="8408880" cy="134136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22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220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spcBef>
                <a:spcPts val="220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244520" indent="-203040">
              <a:spcBef>
                <a:spcPts val="220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5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6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32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3131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64FA-0122-49E3-A5A6-E5F21ED31B29}" type="slidenum">
              <a:rPr b="0" lang="en-GB" sz="1400" spc="-1" strike="noStrike">
                <a:solidFill>
                  <a:srgbClr val="1313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1268280"/>
            <a:ext cx="7524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7480" y="1268280"/>
            <a:ext cx="846360" cy="165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291960" algn="ctr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571680" algn="ctr"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041480" algn="ctr">
              <a:spcBef>
                <a:spcPts val="55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5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6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31313"/>
                </a:solidFill>
                <a:latin typeface="Arial"/>
              </a:rPr>
              <a:t>Developing and using URIs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endParaRPr b="0" lang="en-US" sz="31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Facilitator: Les Carr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arties seeking interoperability can collaborate to establish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odels for types of cont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Best practice for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olicies for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ndreas Juffinger @ Europeana offered to host discussions / wiki spac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3CAF-28CE-4061-94C2-1BCFED4B70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ontrast between institution and national library perspective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862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mphasis on peopl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oncerned with the “now”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23920" y="1598400"/>
            <a:ext cx="38862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mphasis on objec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oncerned with “long term” &amp; scal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F838-ABFF-4377-A58E-9531E85E2C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department or institution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Before introducing a scheme it is likely that some identifiers will already exist, such as for staff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department or institution sets up a repository with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 principle purpose is to ensure the full “inventory” of published works is available for research assessm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inks for staff will be to the existing identifie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will be assigned to new works as they are creat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dditional URIs may be assigned for external entities such as co-authors and journals.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we can reliably infer that the same journal is multiply referenced then the same identifier can be used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dentifiers for “externals” may typically duplicate identifiers issued elsewhere and would need to be “same-as”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9FD3-B70A-4792-9D9C-97C67E265B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department or institution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repository and the identifier scheme become embedded in the “business” operati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is introduces a common structure and proces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Open access to the repository simplifies, speeds and makes more consistent the process of referencing other work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re is a need for a policy for managing URIs, such a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ithout a URI an entity cannot be referenc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anagement of records, subject trees, etc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Recognise that there may be multiple identifiers for the same entit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BCE8-5141-43F3-A7E3-07523668A7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ethods for creating URI’s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xtract some information from the object and include it when creating the identifi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an object originates externally then one may incorporate some of the information about it in forming the new identifi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UK government has recently issued URI guidelin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Opportunity for a small number of like minded organisations to work togeth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0B0EB-C82B-4AB2-AF4D-CB3E30B468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nvite small number of like minded organisations to work together, but keep it smal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stablish a “best practice” guid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ugh Glaser @ Southampton invited URIs to be sent to him and he would maintain same-as rel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1C56-479A-4CCD-A5B5-7FBCFA2B10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31313"/>
                </a:solidFill>
                <a:latin typeface="Arial"/>
              </a:rPr>
              <a:t>Developing and using URIs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endParaRPr b="0" lang="en-US" sz="31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Facilitator: Sean Marti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library receives a significant volume of externally published items on a long term bas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It publishes its own works – often these are digitised imag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re are issues of scale and long term, such as changing titles and other nam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 proportion of the “work” is dealing with exceptions / erro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re is a notion of version management, as content and metadata can be updated and so change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identifier tends to refer to the logical item of which there may be several versions/manifest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23C5-D720-4C14-A97D-D3BF66A73B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Do we want to have, or not have, semantics within the URI, as the way it is described may change over time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 URI must be persistent and unique and its form is less importa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ts not essential to have URIs for interoperability but it may help a lo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Difficult to resolve names, places, etc without standardised vocabular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can depend on an underlying content model, but content models tend to change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n linked data, some URLs will break, hence maybe a finite lifetime should be offered for a URI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20BB-4643-473D-B405-172B0C7251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n individual organisation could proceed to define URIs and publish, but there is a risk of incompatibility with othe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t least one library would like to proceed but hesitates to go it alone without some reassurance of compatabilit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is risk is mitigated by collaboration – see ac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would refer to “objects” not fil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ABD4-A1F9-4225-B8A4-4E31E735C2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0:18:53Z</dcterms:created>
  <dc:creator>SeMartin</dc:creator>
  <dc:description/>
  <cp:keywords/>
  <dc:language>en-US</dc:language>
  <cp:lastModifiedBy>SeMartin</cp:lastModifiedBy>
  <dcterms:modified xsi:type="dcterms:W3CDTF">2010-05-28T18:42:26Z</dcterms:modified>
  <cp:revision>14</cp:revision>
  <dc:subject/>
  <dc:title>TITLE</dc:title>
</cp:coreProperties>
</file>