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EEE8-F521-4FBF-9FDB-38CB7D17E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DC4F-8923-476B-8B75-13EEA27B1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4088-9F7E-42BD-9588-21F832219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DFFB-A072-423D-8D5F-1E1CF3643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2846-856C-48D3-97DB-453AC5AC3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E9C1-5EE4-4165-BD56-7B4C437B9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B015C-D1C4-4FD2-BFD0-0D68A9B40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3FDA-48D2-4E8E-B403-007941BF1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8468-0BF1-498B-883B-A7C8BB578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B21F-C06D-428F-AB27-ADFAF6C12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415F-FE07-43AA-B5E6-2B4B26693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0DFB-81EE-4D3D-A9FB-2F490B7FD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3BBC-F939-469F-9CCA-7841373A3618}" type="slidenum">
              <a:rPr b="0" lang="en-GB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Developing and using URI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endParaRPr b="0" lang="en-US" sz="31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Facilitator: Les Carr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arties seeking interoperability can collaborate to establish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odels for types of cont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Best practice for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olicies for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ndreas Juffinger @ Europeana offered to host discussions / wiki spa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B243-1AE6-4047-BA54-AF9DD6FE86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trast between institution and national library perspective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mphasis on peop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cerned with the “now”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23920" y="159840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mphasis on objec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cerned with “long term” &amp; sca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786A-EDF7-4EB1-86B4-3EE7571797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department or institution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Before introducing a scheme it is likely that some identifiers will already exist, such as for staff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department or institution sets up a repository with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 principle purpose is to ensure the full “inventory” of published works is available for research assessm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inks for staff will be to the existing identifi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will be assigned to new works as they are creat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dditional URIs may be assigned for external entities such as co-authors and journals.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we can reliably infer that the same journal is multiply referenced then the same identifier can be used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dentifiers for “externals” may typically duplicate identifiers issued elsewhere and would need to be “same-as”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84DB-89AD-42E3-B9E8-4A7F0B4C11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department or institution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repository and the identifier scheme become embedded in the “business” operati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is introduces a common structure and proces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pen access to the repository simplifies, speeds and makes more consistent the process of referencing other work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re is a need for a policy for managing URIs, such a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ithout a URI an entity cannot be referenc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anagement of records, subject trees, etc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Recognise that there may be multiple identifiers for the same entit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B954-C16F-4E13-81F2-BF65D07AE3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ethods for creating URI’s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xtract some information from the object and include it when creating the identifi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an object originates externally then one may incorporate some of the information about it in forming the new identifi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UK government has recently issued URI guidelin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pportunity for a small number of like minded organisations to work togeth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6BC1-74F7-4703-80B9-502D675DF2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nvite small number of like minded organisations to work together, but keep it smal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stablish a “best practice” guid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ugh Glaser @ Southampton invited URIs to be sent to him and he would maintain same-as rel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B17F-76B0-475E-8359-594917C795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Developing and using URI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endParaRPr b="0" lang="en-US" sz="31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Facilitator: Sean Marti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library receives a significant volume of externally published items on a long term bas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It publishes its own works – often these are digitised imag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re are issues of scale and long term, such as changing titles and other nam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 proportion of the “work” is dealing with exceptions / erro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re is a notion of version management, as content and metadata can be updated and so change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identifier tends to refer to the logical item of which there may be several versions/manifest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5F25-70F5-44FF-87E7-EDA36FCD5F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Do we want to have, or not have, semantics within the URI, as the way it is described may change over time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 URI must be persistent and unique and its form is less importa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ts not essential to have URIs for interoperability but it may help a lo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Difficult to resolve names, places, etc without standardised vocabular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can depend on an underlying content model, but content models tend to change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n linked data, some URLs will break, hence maybe a finite lifetime should be offered for a URI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475B-B3C0-4A7A-8ADD-C9AE655837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n individual organisation could proceed to define URIs and publish, but there is a risk of incompatibility with oth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t least one library would like to proceed but hesitates to go it alone without some reassurance of compatabilit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is risk is mitigated by collaboration – see ac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would refer to “objects” not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82ED-24F6-4A29-B37C-6C98B90BFB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0:18:53Z</dcterms:created>
  <dc:creator>SeMartin</dc:creator>
  <dc:description/>
  <cp:keywords/>
  <dc:language>en-US</dc:language>
  <cp:lastModifiedBy>SeMartin</cp:lastModifiedBy>
  <dcterms:modified xsi:type="dcterms:W3CDTF">2010-05-28T18:42:26Z</dcterms:modified>
  <cp:revision>14</cp:revision>
  <dc:subject/>
  <dc:title>TITLE</dc:title>
</cp:coreProperties>
</file>