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3B49-7765-4482-85B6-DB128BD8A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C994-B4F6-4562-A49F-8D057FB5D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E976-05D9-4FDD-A19B-AF86BE9D6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FEBC-7921-4CEA-BD23-C6FACC846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6A8E-BB1F-4295-A80B-2571EFE22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EEAE-A564-4B03-BA0C-AA641F1BD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5086-6072-4D54-89F0-B839872BC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FB25-DB33-493B-9550-EA5F10294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93BB-6E60-4846-88E3-0CF6167A0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9F06-EDDB-4A84-BDBD-9C1AAD5E7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7158-8772-4B38-BC73-0090AC9C1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F2B8-AAE3-4A9C-8900-C4F67127B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0BD7-755D-416A-AD92-B48D56D2BCB1}" type="slidenum">
              <a:rPr b="0" lang="en-GB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arties seeking interoperability can collaborate to establish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odels for types of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st practice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olicies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dreas Juffinger @ Europeana offered to host discussions / wiki spa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2143-CCD4-4ADC-89FE-AEEEEB5208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rast between institution and national library perspective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peop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the “now”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392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“long term” &amp; sca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F9E4-55BA-4777-8FA2-3A17C7DBEB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fore introducing a scheme it is likely that some identifiers will already exist, such as for staf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department or institution sets up a repository with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principle purpose is to ensure the full “inventory” of published works is available for research assessm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inks for staff will be to the existing identifi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ill be assigned to new works as they are creat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dditional URIs may be assigned for external entities such as co-authors and journals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an reliably infer that the same journal is multiply referenced then the same identifier can be used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dentifiers for “externals” may typically duplicate identifiers issued elsewhere and would need to be “same-as”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1632-F43E-49DD-B48C-0CC1EFAA20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repository and the identifier scheme become embedded in the “business” oper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introduces a common structure and proces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en access to the repository simplifies, speeds and makes more consistent the process of referencing other work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re is a need for a policy for managing URIs, such a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ithout a URI an entity cannot be referenc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anagement of records, subject trees, etc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Recognise that there may be multiple identifiers for the same ent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995E-D86C-419E-97CD-9CE7C94E07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ethods for creating URI’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xtract some information from the object and include it when creating the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an object originates externally then one may incorporate some of the information about it in forming the new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UK government has recently issued URI guidelin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portunity for a small number of like minded organisations to work togeth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275A-D486-47F7-A327-2A6848BCB2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vite small number of like minded organisations to work together, but keep it smal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“best practice” guid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ugh Glaser @ Southampton invited URIs to be sent to him and he would maintain same-as rel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6D3A-1B1B-48DA-929B-44C3B27894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Sean Marti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library receives a significant volume of externally published items on a long term bas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t publishes its own works – often these are digitised ima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are issues of scale and long term, such as changing titles and other n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proportion of the “work” is dealing with exceptions / erro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is a notion of version management, as content and metadata can be updated and s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identifier tends to refer to the logical item of which there may be several versions/manifest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4C85-1BFD-4F8F-89D5-CED6BFC38A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o we want to have, or not have, semantics within the URI, as the way it is described may change over tim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URI must be persistent and unique and its form is less importa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ts not essential to have URIs for interoperability but it may help a lo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ifficult to resolve names, places, etc without standardised vocabular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can depend on an underlying content model, but content models tend t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 linked data, some URLs will break, hence maybe a finite lifetime should be offered for a URI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1E77-DEDD-4A93-848F-9FD7CEA1B4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 individual organisation could proceed to define URIs and publish, but there is a risk of incompatibility with oth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t least one library would like to proceed but hesitates to go it alone without some reassurance of compatabil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risk is mitigated by collaboration – see ac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ould refer to “objects” not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B88A-551B-4F93-AEA6-8B8C930608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18:42:26Z</dcterms:modified>
  <cp:revision>14</cp:revision>
  <dc:subject/>
  <dc:title>TITLE</dc:title>
</cp:coreProperties>
</file>