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C01B-5A09-4DF0-AEB1-2D53DC7EB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54CC-CF0B-4633-A34C-E7E9373C8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CBA2-1091-4F5A-9329-41F54870B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DF59-B930-47BB-AA58-777D93184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6C47-B253-4732-B17B-794053B49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E8F8-E3BE-4445-8EA7-2649B3BCF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D831-8C06-4CBE-839E-3BE683440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3471-4015-40AD-ADA7-FD656AA5E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6510-CA28-4DE9-9A1A-F4BC9BB8A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758F-6986-481D-88CE-C52C108D3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7888-FF86-4B6B-9AEE-87CFC271D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CCFF-B1CB-4EF7-91FC-992E87C5D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6ADC-4E5A-4BC4-AC92-050679782041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arties seeking interoperability can collaborate to establish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odels for types of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st practice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olicies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dreas Juffinger @ Europeana offered to host discussions / wiki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2DFB-AC72-4248-87B8-FA83AC3382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rast between institution and national library perspectiv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peop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the “now”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392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“long term” &amp; sca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43DA-CA02-4973-B53E-D75BF6A1E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fore introducing a scheme it is likely that some identifiers will already exist, such as for staf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department or institution sets up a repository with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principle purpose is to ensure the full “inventory” of published works is available for research assessm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inks for staff will be to the existing identifi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ill be assigned to new works as they are creat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dditional URIs may be assigned for external entities such as co-authors and journals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an reliably infer that the same journal is multiply referenced then the same identifier can be used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dentifiers for “externals” may typically duplicate identifiers issued elsewhere and would need to be “same-as”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F475-59BF-4290-8330-4543C20CD6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repository and the identifier scheme become embedded in the “business” oper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introduces a common structure and proce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en access to the repository simplifies, speeds and makes more consistent the process of referencing other work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re is a need for a policy for managing URIs, such a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ithout a URI an entity cannot be referenc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anagement of records, subject trees, etc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Recognise that there may be multiple identifiers for the same ent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366D-221F-42EF-AF26-5BDD4AD378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thods for creating URI’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xtract some information from the object and include it when creating the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an object originates externally then one may incorporate some of the information about it in forming the new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UK government has recently issued URI guidelin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portunity for a small number of like minded organisations to work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F37D-0D98-4626-AB54-4CC08328BE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vite small number of like minded organisations to work together, but keep it smal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“best practice” guid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ugh Glaser @ Southampton invited URIs to be sent to him and he would maintain same-as rel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DFD3-4758-47F7-A9DD-C6B2B85D34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Sean Marti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library receives a significant volume of externally published items on a long term bas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t publishes its own works – often these are digitised ima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are issues of scale and long term, such as changing titles and other n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proportion of the “work” is dealing with exceptions / erro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is a notion of version management, as content and metadata can be updated and s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identifier tends to refer to the logical item of which there may be several versions/manifest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5E1B-CD90-45D1-94CB-D0151C4264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o we want to have, or not have, semantics within the URI, as the way it is described may change over tim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URI must be persistent and unique and its form is less importa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ts not essential to have URIs for interoperability but it may help a lo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ifficult to resolve names, places, etc without standardised vocabular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can depend on an underlying content model, but content models tend t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 linked data, some URLs will break, hence maybe a finite lifetime should be offered for a URI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D70D-F4D7-4BDB-8AAB-8D8B1C9CF6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 individual organisation could proceed to define URIs and publish, but there is a risk of incompatibility with oth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t least one library would like to proceed but hesitates to go it alone without some reassurance of compatabil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risk is mitigated by collaboration – see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ould refer to “objects” not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D1E5-B828-4602-B8A2-07FA68A03A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18:42:26Z</dcterms:modified>
  <cp:revision>14</cp:revision>
  <dc:subject/>
  <dc:title>TITLE</dc:title>
</cp:coreProperties>
</file>