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CE79-88A1-4945-AD2D-9C4CDBB16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494F-20A6-4017-BE19-B2E0B4631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BA86-A982-4733-A881-4E4582E04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8DF9-5EA1-4266-8A56-A7F1F4C56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8A25-7983-428C-987A-F4AA0ECB3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8FB1-818A-4A94-97A4-16E461F75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A4A8-92B9-4122-87C1-9201B0753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0A8B-65C6-460C-A143-B186168CC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855C-E776-47B5-AAD6-E02A7D3C0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B2C3-79DB-4458-A914-F1E47F07B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EB21-5CD1-46E4-9C1D-8C8BC9F64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5E6F-2EDC-449D-A708-7548B62C6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5E4A-36B1-4027-A215-384A7BD522FF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arties seeking interoperability can collaborate to establish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odels for types of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st practice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olicies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dreas Juffinger @ Europeana offered to host discussions / wiki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8BDA-A599-491D-8450-C0482F70DD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rast between institution and national library perspectiv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peop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the “now”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392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“long term” &amp; sca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815F-5889-4100-BCB8-310F85BF0A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fore introducing a scheme it is likely that some identifiers will already exist, such as for staf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department or institution sets up a repository with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principle purpose is to ensure the full “inventory” of published works is available for research assessm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inks for staff will be to the existing identifi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ill be assigned to new works as they are creat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dditional URIs may be assigned for external entities such as co-authors and journals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an reliably infer that the same journal is multiply referenced then the same identifier can be used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dentifiers for “externals” may typically duplicate identifiers issued elsewhere and would need to be “same-as”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2852-B981-4787-9596-1A6A1766A3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repository and the identifier scheme become embedded in the “business” oper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introduces a common structure and proce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en access to the repository simplifies, speeds and makes more consistent the process of referencing other work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re is a need for a policy for managing URIs, such a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ithout a URI an entity cannot be referenc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anagement of records, subject trees, etc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Recognise that there may be multiple identifiers for the same ent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CDBE-264E-4F88-B8F7-F17AEB8819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thods for creating URI’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xtract some information from the object and include it when creating the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an object originates externally then one may incorporate some of the information about it in forming the new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UK government has recently issued URI guidelin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portunity for a small number of like minded organisations to work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438E-86D9-417C-84D4-DF4AB24BBF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vite small number of like minded organisations to work together, but keep it smal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“best practice” guid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ugh Glaser @ Southampton invited URIs to be sent to him and he would maintain same-as rel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6236-B2FF-4FA9-8BCE-C17CB1F961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Sean Marti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library receives a significant volume of externally published items on a long term bas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t publishes its own works – often these are digitised ima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are issues of scale and long term, such as changing titles and other n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proportion of the “work” is dealing with exceptions / erro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is a notion of version management, as content and metadata can be updated and s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identifier tends to refer to the logical item of which there may be several versions/manifest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D490-23EC-4CE9-822B-5BEB7F6464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o we want to have, or not have, semantics within the URI, as the way it is described may change over tim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URI must be persistent and unique and its form is less importa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ts not essential to have URIs for interoperability but it may help a lo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ifficult to resolve names, places, etc without standardised vocabular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can depend on an underlying content model, but content models tend t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 linked data, some URLs will break, hence maybe a finite lifetime should be offered for a URI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D075-4D51-4BD3-8C77-693C90686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 individual organisation could proceed to define URIs and publish, but there is a risk of incompatibility with oth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t least one library would like to proceed but hesitates to go it alone without some reassurance of compatabil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risk is mitigated by collaboration – see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ould refer to “objects” not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655A-FD5D-4537-812C-1000EFE796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18:42:26Z</dcterms:modified>
  <cp:revision>14</cp:revision>
  <dc:subject/>
  <dc:title>TITLE</dc:title>
</cp:coreProperties>
</file>